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598-6AFB-464F-A7DD-090C044F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C9A-0C2A-4A15-BE61-86FC117E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5A4-6D7B-41DD-B3E4-381A7447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03B-26C0-463E-A446-B9DB5FA4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DAA-5595-437F-9ED0-D7D7542E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CB2-DF4B-4B72-A22E-DF6E3B70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F58-F25F-41BC-9A65-48553C7F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F7D-1DD0-473E-B936-8EAF09ED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F3B-D868-46DA-B10B-1E966040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B7D-ED91-4753-9E80-0B0147E1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778-4013-4EB4-B2D9-AD05FE9B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30E-23E2-425B-A9BD-2080D60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DD78-4592-429C-B79A-EA34BA3969C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9676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7e08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38200"/>
            <a:ext cx="6400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d7e08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305840" y="46609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000" y="206280"/>
            <a:ext cx="64184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7e08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000" y="1200240"/>
            <a:ext cx="64184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e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d7e0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7794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e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d7e0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474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3:04:23Z</dcterms:created>
  <dc:creator/>
  <dc:description/>
  <dc:language>en-US</dc:language>
  <cp:lastModifiedBy>Ric6000</cp:lastModifiedBy>
  <dcterms:modified xsi:type="dcterms:W3CDTF">2015-01-08T08:20:0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