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8CE-A95A-4F6F-85FB-BB6A6349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7E9-0AA5-4DED-AE0A-1156F259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D3F-2980-4D6F-92EB-540F5918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BB7-36DF-4C89-90F7-47E81438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E589-DD3C-4558-8D61-7496A4ED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D452-8EEC-46BF-83DC-3161E6D1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1C6A-11E0-4044-A110-D41B9942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2C9E-D85D-4CC9-B387-0CE3E2C2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6644-10FA-4396-B0A2-7CC82276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BBD4-C50E-4745-9DD3-4B1E5225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1108-8D2A-4EBA-B4CE-06F0D5C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803-9E52-4E44-8E37-10694288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B3C9-9145-4E5A-A003-D5360AB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5152-5687-45B0-BB35-8CD6FF98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3652-0275-4102-9F02-5A68C6C1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10CE-0F25-46DB-9DF2-46EC1C28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7D20-577D-4E4E-B376-840979CF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F5A-33F2-49F1-93F2-68DFDC89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F9B-B5A4-44F1-BBE0-486355BE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30F-D624-4963-B48F-E284C2D9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28F-201C-4FF7-BC08-79BF27D0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8CB-D09C-4B42-9EA4-CFDED3FB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F16-2A8D-4C75-B513-CADAA3D6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889-4144-45C7-929A-FEA136C8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2A47-3635-487B-868B-8B1F8F7E1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2022" t="2249" r="1876" b="7679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5013-9C4C-41A9-B17B-6ADC9F403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84480" y="6165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20:27:12Z</dcterms:created>
  <dc:creator>胡紫云</dc:creator>
  <dc:description/>
  <dc:language>en-US</dc:language>
  <cp:lastModifiedBy/>
  <dcterms:modified xsi:type="dcterms:W3CDTF">2015-01-09T04:04:3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