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1B37-7352-43E6-82AC-F95C04A64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7280" y="206280"/>
            <a:ext cx="7139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47280" y="1200240"/>
            <a:ext cx="713916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47280" y="2974320"/>
            <a:ext cx="713916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EFA3-B235-4804-9B05-AB862E20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7280" y="206280"/>
            <a:ext cx="7139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47280" y="1200240"/>
            <a:ext cx="348372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05600" y="1200240"/>
            <a:ext cx="348372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47280" y="2974320"/>
            <a:ext cx="348372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05600" y="2974320"/>
            <a:ext cx="348372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73E2-046F-487D-95AD-BEF0ABF47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47280" y="206280"/>
            <a:ext cx="7139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47280" y="1200240"/>
            <a:ext cx="2298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61080" y="1200240"/>
            <a:ext cx="2298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75240" y="1200240"/>
            <a:ext cx="2298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47280" y="2974320"/>
            <a:ext cx="2298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61080" y="2974320"/>
            <a:ext cx="2298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75240" y="2974320"/>
            <a:ext cx="2298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6247-693E-4659-84D8-8F5D539CC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636E-9787-4F22-BBA5-C4C25FF9F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47280" y="206280"/>
            <a:ext cx="7139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47280" y="1200240"/>
            <a:ext cx="713916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7671-5B52-4B03-881A-98D55CEC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47280" y="206280"/>
            <a:ext cx="7139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47280" y="1200240"/>
            <a:ext cx="713916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C4AB-ED8E-48CC-8EB6-6E5B216B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47280" y="206280"/>
            <a:ext cx="7139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47280" y="1200240"/>
            <a:ext cx="348372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5600" y="1200240"/>
            <a:ext cx="348372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3DD3-88AC-4E9F-8EE0-1454DBE7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47280" y="206280"/>
            <a:ext cx="7139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E2C3-1933-4E59-8D20-8F7AD4C3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47280" y="206280"/>
            <a:ext cx="713916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72DD-EEBB-4ADC-9226-10D43C2F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47280" y="206280"/>
            <a:ext cx="7139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47280" y="1200240"/>
            <a:ext cx="348372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5600" y="1200240"/>
            <a:ext cx="348372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547280" y="2974320"/>
            <a:ext cx="348372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5769-BFA7-49FC-894D-2ED5D138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47280" y="206280"/>
            <a:ext cx="7139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47280" y="1200240"/>
            <a:ext cx="713916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C094-3D5F-488E-B695-49356B52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47280" y="206280"/>
            <a:ext cx="7139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47280" y="1200240"/>
            <a:ext cx="348372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05600" y="1200240"/>
            <a:ext cx="348372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205600" y="2974320"/>
            <a:ext cx="348372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28E7A-F700-4AE0-8C0C-1DE28858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47280" y="206280"/>
            <a:ext cx="7139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47280" y="1200240"/>
            <a:ext cx="348372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05600" y="1200240"/>
            <a:ext cx="348372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547280" y="2974320"/>
            <a:ext cx="713916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6F6B-98A8-40A3-B775-76C30A79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7280" y="206280"/>
            <a:ext cx="7139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47280" y="1200240"/>
            <a:ext cx="713916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547280" y="2974320"/>
            <a:ext cx="713916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2550-91BD-42DD-9D7C-E1EC9DD2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47280" y="206280"/>
            <a:ext cx="7139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7280" y="1200240"/>
            <a:ext cx="348372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05600" y="1200240"/>
            <a:ext cx="348372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547280" y="2974320"/>
            <a:ext cx="348372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205600" y="2974320"/>
            <a:ext cx="348372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92F1-E65E-414D-9128-27D3618C5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7280" y="206280"/>
            <a:ext cx="7139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47280" y="1200240"/>
            <a:ext cx="2298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961080" y="1200240"/>
            <a:ext cx="2298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75240" y="1200240"/>
            <a:ext cx="2298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547280" y="2974320"/>
            <a:ext cx="2298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961080" y="2974320"/>
            <a:ext cx="2298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75240" y="2974320"/>
            <a:ext cx="2298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08161-2C33-4942-B31E-1F40DEDFD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47280" y="206280"/>
            <a:ext cx="7139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47280" y="1200240"/>
            <a:ext cx="713916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6A88-7048-433E-BF18-B7C21A69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7280" y="206280"/>
            <a:ext cx="7139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47280" y="1200240"/>
            <a:ext cx="348372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05600" y="1200240"/>
            <a:ext cx="348372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4AB7-793A-44F2-A55A-58F0BE3F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7280" y="206280"/>
            <a:ext cx="7139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72BF-9377-4FEB-A2B3-5CBC4F77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47280" y="206280"/>
            <a:ext cx="713916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65BF-17BA-41EE-B79D-DBB84517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7280" y="206280"/>
            <a:ext cx="7139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47280" y="1200240"/>
            <a:ext cx="348372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05600" y="1200240"/>
            <a:ext cx="348372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47280" y="2974320"/>
            <a:ext cx="348372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424D-2E5A-46D3-A9AB-488CF1D7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7280" y="206280"/>
            <a:ext cx="7139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47280" y="1200240"/>
            <a:ext cx="348372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05600" y="1200240"/>
            <a:ext cx="348372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05600" y="2974320"/>
            <a:ext cx="348372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9F78-5327-4886-A27E-9A36D78C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7280" y="206280"/>
            <a:ext cx="7139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47280" y="1200240"/>
            <a:ext cx="348372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05600" y="1200240"/>
            <a:ext cx="348372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47280" y="2974320"/>
            <a:ext cx="713916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0652-F7B9-4900-A38C-0E16B17E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34640" cy="5143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7280" y="206280"/>
            <a:ext cx="7139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47280" y="1200240"/>
            <a:ext cx="713916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1F77-B425-4F66-9469-AF4AC1D9F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10376" t="0" r="13326" b="6278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32000" y="555480"/>
            <a:ext cx="568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F886-9CD7-4E04-B8D7-00EBE8F55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32000" y="555480"/>
            <a:ext cx="568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绿芽与昆虫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131640" y="1707840"/>
            <a:ext cx="5689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42480" y="466092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7280" y="206280"/>
            <a:ext cx="7139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47280" y="1200240"/>
            <a:ext cx="713916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8466120" cy="5143680"/>
            <a:chOff x="0" y="0"/>
            <a:chExt cx="8466120" cy="5143680"/>
          </a:xfrm>
        </p:grpSpPr>
        <p:sp>
          <p:nvSpPr>
            <p:cNvPr id="9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285920"/>
              <a:ext cx="846612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Box 7"/>
            <p:cNvSpPr/>
            <p:nvPr/>
          </p:nvSpPr>
          <p:spPr>
            <a:xfrm rot="20926800">
              <a:off x="1946880" y="267624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09:38:22Z</dcterms:created>
  <dc:creator/>
  <dc:description/>
  <dc:language>en-US</dc:language>
  <cp:lastModifiedBy/>
  <dcterms:modified xsi:type="dcterms:W3CDTF">2015-01-08T12:48:3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