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293-E81D-4F51-AE92-BB47071B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0CC-E2B0-4461-9E79-6AAC6A0D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3AFD-41EA-4DF2-AB10-79862E4B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E5B3-E2DC-4B1A-BB32-210ACB23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C52-5321-4307-9655-A7A3CC41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643-9CF9-4FBE-964A-F813641A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093-C9FD-4AC1-90BA-4C0C2606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5AF-71D2-4B70-8687-010DAA6A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2E6C-FD78-4D3A-A281-92EE07B6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6EE-B550-4EA3-AAC9-6DE95189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E24-6CB4-4108-906B-5F42B45A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0E64-6120-4F82-93BB-DA6EEA3A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72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"/>
          <p:cNvPicPr/>
          <p:nvPr/>
        </p:nvPicPr>
        <p:blipFill>
          <a:blip r:embed="rId3"/>
          <a:srcRect l="0" t="0" r="9685" b="0"/>
          <a:stretch/>
        </p:blipFill>
        <p:spPr>
          <a:xfrm>
            <a:off x="7143840" y="4597560"/>
            <a:ext cx="200016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72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"/>
          <p:cNvPicPr/>
          <p:nvPr/>
        </p:nvPicPr>
        <p:blipFill>
          <a:blip r:embed="rId3"/>
          <a:srcRect l="0" t="0" r="9685" b="0"/>
          <a:stretch/>
        </p:blipFill>
        <p:spPr>
          <a:xfrm>
            <a:off x="7143840" y="4597560"/>
            <a:ext cx="2000160" cy="5461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8C9A-12A8-45E5-827F-5ED808303A6C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工作文件夹\2011净水设备工作文件\扬罗必凯\进行中项目\新品发布会\正稿\美的新品发布会延展物料 11.12.24\美的新品发布会延展物料 11.12.24\PPT模板\PPT3.jpg"/>
          <p:cNvPicPr/>
          <p:nvPr/>
        </p:nvPicPr>
        <p:blipFill>
          <a:blip r:embed="rId1"/>
          <a:stretch/>
        </p:blipFill>
        <p:spPr>
          <a:xfrm>
            <a:off x="34920" y="0"/>
            <a:ext cx="9140760" cy="5141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-3240" y="47322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2987640" y="714240"/>
            <a:ext cx="12859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1859c"/>
                </a:solidFill>
                <a:latin typeface="微软雅黑"/>
                <a:ea typeface="微软雅黑"/>
              </a:rPr>
              <a:t>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1859c"/>
                </a:solidFill>
                <a:latin typeface="微软雅黑"/>
                <a:ea typeface="微软雅黑"/>
              </a:rPr>
              <a:t>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3000240" y="714240"/>
            <a:ext cx="12859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1859c"/>
                </a:solidFill>
                <a:latin typeface="微软雅黑"/>
                <a:ea typeface="微软雅黑"/>
              </a:rPr>
              <a:t>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1859c"/>
                </a:solidFill>
                <a:latin typeface="微软雅黑"/>
                <a:ea typeface="微软雅黑"/>
              </a:rPr>
              <a:t>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1680" y="47322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C:\工作文件夹\2011净水设备工作文件\扬罗必凯\进行中项目\新品发布会\正稿\美的新品发布会延展物料 11.12.24\美的新品发布会延展物料 11.12.24\PPT模板\PPT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03:06:36Z</dcterms:created>
  <dc:creator>xuchunmei</dc:creator>
  <dc:description/>
  <dc:language>en-US</dc:language>
  <cp:lastModifiedBy>Administrator</cp:lastModifiedBy>
  <dcterms:modified xsi:type="dcterms:W3CDTF">2015-01-08T08:38:39Z</dcterms:modified>
  <cp:revision>2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