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D06-E0D4-4C51-8114-E6FF27BF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05120" y="365688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542-336D-4457-BDF7-048A24A2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8020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060-B658-43A4-9F24-0A7FB999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9796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9116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90512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19796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9116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94A-D3B7-4A83-BC19-A2D195D2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B88B-A2F3-47C2-8CD2-8B8DEAF3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05120" y="991800"/>
            <a:ext cx="67816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CF6B-2C5B-4655-8345-34EF7A96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67816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44DC-1633-41E4-A990-39CAB0F2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4FE6-B275-4717-B94D-CFF3CBF9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CB7D-E162-4AD2-BCF7-A9808EC9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F04E-DF5D-40D2-93F0-A924230D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1E18-EC60-4AD7-BA45-8B542252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905120" y="991800"/>
            <a:ext cx="67816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E51-0D6D-4673-9718-CBD58180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8020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0258-DC83-46DB-AD6E-304F006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0A6B-3870-4C48-A2C0-FCEF5E77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905120" y="365688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4AC7-0766-4E80-8DB4-4D894A88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8020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13C3-45B3-4798-A0AF-87B89724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9796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91160" y="99180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90512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19796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91160" y="3656880"/>
            <a:ext cx="21834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3D76-475E-4C3D-90B7-6B07D549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67816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FC5-C57F-49C1-A4AE-3BD6319D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696-A94C-4B18-8821-4E58D397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161-1BDD-49F5-A028-97199AE4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ECB-D5B7-4D35-B35F-6E376BF0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873-6322-4BEC-8EDF-A0466D0D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80200" y="365688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A18-B51B-4B5D-8A37-5C5A0618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512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80200" y="991800"/>
            <a:ext cx="3309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5120" y="3656880"/>
            <a:ext cx="67816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41D-E9B4-48E1-91BE-B81FD188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1440"/>
            <a:ext cx="539640" cy="830160"/>
          </a:xfrm>
          <a:custGeom>
            <a:avLst/>
            <a:gdLst>
              <a:gd name="textAreaLeft" fmla="*/ 0 w 539640"/>
              <a:gd name="textAreaRight" fmla="*/ 540000 w 5396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24c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1440"/>
            <a:ext cx="540000" cy="830160"/>
          </a:xfrm>
          <a:custGeom>
            <a:avLst/>
            <a:gdLst>
              <a:gd name="textAreaLeft" fmla="*/ 0 w 540000"/>
              <a:gd name="textAreaRight" fmla="*/ 540360 w 54000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24c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851280" y="0"/>
            <a:ext cx="4464000" cy="836280"/>
            <a:chOff x="3851280" y="0"/>
            <a:chExt cx="446400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6ca5d8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9040" y="0"/>
              <a:ext cx="426240" cy="8352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905120" y="991800"/>
            <a:ext cx="67816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223D-B591-4D79-9395-10F8AC70F0E9}" type="slidenum">
              <a:rPr b="0" lang="zh-CN" sz="14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8120" y="2437920"/>
            <a:ext cx="579096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论文名称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论文框架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2438280" y="201456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3276720" y="177336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594160" y="211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>
            <a:off x="2438280" y="285264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2594160" y="295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AutoShape 32"/>
          <p:cNvSpPr/>
          <p:nvPr/>
        </p:nvSpPr>
        <p:spPr>
          <a:xfrm>
            <a:off x="2438280" y="3691080"/>
            <a:ext cx="685800" cy="685800"/>
          </a:xfrm>
          <a:prstGeom prst="diamond">
            <a:avLst/>
          </a:prstGeom>
          <a:solidFill>
            <a:srgbClr val="5d4bc7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34"/>
          <p:cNvSpPr/>
          <p:nvPr/>
        </p:nvSpPr>
        <p:spPr>
          <a:xfrm>
            <a:off x="2594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AutoShape 36"/>
          <p:cNvSpPr/>
          <p:nvPr/>
        </p:nvSpPr>
        <p:spPr>
          <a:xfrm>
            <a:off x="2438280" y="4605480"/>
            <a:ext cx="685800" cy="685800"/>
          </a:xfrm>
          <a:prstGeom prst="diamond">
            <a:avLst/>
          </a:prstGeom>
          <a:solidFill>
            <a:srgbClr val="878fa5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2594160" y="470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3920"/>
            <a:ext cx="716292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3"/>
          <p:cNvSpPr txBox="1"/>
          <p:nvPr/>
        </p:nvSpPr>
        <p:spPr>
          <a:xfrm>
            <a:off x="3781440" y="3141720"/>
            <a:ext cx="424656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cbb61d"/>
                    </a:gs>
                    <a:gs pos="100000">
                      <a:srgbClr val="6ca5d8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cbb61d"/>
                  </a:gs>
                  <a:gs pos="100000">
                    <a:srgbClr val="6ca5d8"/>
                  </a:gs>
                </a:gsLst>
                <a:lin ang="1080000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6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66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66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11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5d4bc7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5d4bc7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5d4bc7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>微软用户</dc:creator>
  <dc:description/>
  <dc:language>en-US</dc:language>
  <cp:lastModifiedBy>echo</cp:lastModifiedBy>
  <dcterms:modified xsi:type="dcterms:W3CDTF">2015-01-08T13:08:58Z</dcterms:modified>
  <cp:revision>3</cp:revision>
  <dc:subject/>
  <dc:title>论文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