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10799763" cy="606583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962CB-1D73-4BBC-8BC9-CDEBCA14E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1DCA7-CDD2-49FD-956F-D857CFF25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F583B-2899-400D-BC0E-C030744AAA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BFF14-67AA-419E-82AC-4B783F7CD7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B34E8-34C8-417F-AC7D-9AD39A34A3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7B15-4815-4783-8759-33A697D91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EF88B-7D0D-49B1-9EB8-651E79854D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A5326-9C4B-4991-9AC2-48727AC010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5BE610-FEF2-4853-A593-44D34D810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1D4D1C-D635-4B56-963B-2C9D6E811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B13515-4953-4849-95CC-D2FDF5C884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EE0DF-E85A-44F3-A4F5-F229343E9A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BDBBA0-E966-4A4F-92B3-4BBBFDFDA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91B2C4-AAEC-4244-A2F9-5DD575110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2A34F-298A-459F-B84F-618C91519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205EF-717C-4A72-B69E-05B7B1ADB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82644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7113600" y="14158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3928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82644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7113600" y="3507480"/>
            <a:ext cx="31302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46B61-79BA-4AED-8E49-1A61478E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9B26-C4A7-4E56-8E2F-3B90AEAD1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87BA-B427-4D6A-9F46-C75831BB6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0AED8-E5AE-4639-BCEB-7D9FBEFAF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539280" y="242640"/>
            <a:ext cx="9721800" cy="4688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3F39-B1B0-4D1A-82F2-0A23264E3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79D99-1DAF-40E5-A4C6-A2CCF40C5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520960" y="35074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2C8D-0E29-4DBA-A5D0-CF9A4CBD0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520960" y="1415880"/>
            <a:ext cx="474408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39280" y="3507480"/>
            <a:ext cx="9721800" cy="190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7EA8A-AAC7-423B-8C61-7AFE68F6B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10800000" cy="606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2"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4" marL="343080" indent="-343080">
              <a:spcBef>
                <a:spcPts val="601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539280" y="5524200"/>
            <a:ext cx="2521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691080" y="5524200"/>
            <a:ext cx="34192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40720" y="5524200"/>
            <a:ext cx="2520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C3F500-4FB3-41C3-88A2-AB44C34B81F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440" y="1440"/>
            <a:ext cx="10800000" cy="6066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42920" y="2570040"/>
            <a:ext cx="632448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6600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539280" y="5524200"/>
            <a:ext cx="25210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691080" y="5524200"/>
            <a:ext cx="341928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7740720" y="5524200"/>
            <a:ext cx="2520720" cy="42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167F3-7CB1-4A36-8836-35A5B84FB5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540000" y="1419120"/>
            <a:ext cx="9719640" cy="351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66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66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3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42920" y="2570040"/>
            <a:ext cx="6324480" cy="130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魔方与城市宽屏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PPT</a:t>
            </a:r>
            <a:r>
              <a:rPr b="1" lang="zh-CN" sz="4000" spc="-1" strike="noStrike">
                <a:solidFill>
                  <a:srgbClr val="ff6600"/>
                </a:solidFill>
                <a:latin typeface="Arial"/>
              </a:rPr>
              <a:t>模板</a:t>
            </a:r>
            <a:endParaRPr b="1" lang="en-US" sz="40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218880" y="3871800"/>
            <a:ext cx="61722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829720" y="5548320"/>
            <a:ext cx="192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1c1c1c"/>
                </a:solidFill>
                <a:latin typeface="Arial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39280" y="242640"/>
            <a:ext cx="9721800" cy="101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66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39280" y="1415880"/>
            <a:ext cx="9721800" cy="400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66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 txBox="1"/>
          <p:nvPr/>
        </p:nvSpPr>
        <p:spPr>
          <a:xfrm>
            <a:off x="555480" y="2881440"/>
            <a:ext cx="5759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ffffff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ff9900"/>
                    </a:gs>
                  </a:gsLst>
                  <a:lin ang="13500000"/>
                </a:gradFill>
                <a:effectLst>
                  <a:outerShdw dist="63504" dir="2216091" blurRad="0" rotWithShape="0">
                    <a:srgbClr val="868686">
                      <a:alpha val="50000"/>
                    </a:srgbClr>
                  </a:outerShdw>
                </a:effectLst>
                <a:latin typeface="Arial"/>
              </a:rPr>
              <a:t>Thank You </a:t>
            </a:r>
            <a:endParaRPr b="1" lang="en-US" sz="1800" spc="1" strike="noStrike">
              <a:ln w="19080">
                <a:solidFill>
                  <a:srgbClr val="ffffff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ff9900"/>
                  </a:gs>
                </a:gsLst>
                <a:lin ang="13500000"/>
              </a:gradFill>
              <a:effectLst>
                <a:outerShdw dist="63504" dir="2216091" blurRad="0" rotWithShape="0">
                  <a:srgbClr val="868686">
                    <a:alpha val="5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0" name=""/>
          <p:cNvGrpSpPr/>
          <p:nvPr/>
        </p:nvGrpSpPr>
        <p:grpSpPr>
          <a:xfrm>
            <a:off x="0" y="0"/>
            <a:ext cx="10001160" cy="6067440"/>
            <a:chOff x="0" y="0"/>
            <a:chExt cx="10001160" cy="6067440"/>
          </a:xfrm>
        </p:grpSpPr>
        <p:sp>
          <p:nvSpPr>
            <p:cNvPr id="91" name="矩形 4"/>
            <p:cNvSpPr/>
            <p:nvPr/>
          </p:nvSpPr>
          <p:spPr>
            <a:xfrm>
              <a:off x="129420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2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516680"/>
              <a:ext cx="10001160" cy="4550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3" name="TextBox 7"/>
            <p:cNvSpPr/>
            <p:nvPr/>
          </p:nvSpPr>
          <p:spPr>
            <a:xfrm rot="20926800">
              <a:off x="2278800" y="3159360"/>
              <a:ext cx="551340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5-23T02:58:19Z</dcterms:created>
  <dc:creator/>
  <dc:description/>
  <dc:language>en-US</dc:language>
  <cp:lastModifiedBy>Chinese User</cp:lastModifiedBy>
  <dcterms:modified xsi:type="dcterms:W3CDTF">2015-01-08T08:29:33Z</dcterms:modified>
  <cp:revision>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  <property fmtid="{D5CDD505-2E9C-101B-9397-08002B2CF9AE}" pid="3" name="Version">
    <vt:r8>1</vt:r8>
  </property>
</Properties>
</file>