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F8D-28DB-409B-A98B-3A9C01988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2AAE-3615-4F5B-8F39-E6D94AFA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290-A4DB-411D-A532-A6F9ADCA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39F7-7ED6-4710-A2DF-F59DF594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0567-5AF3-4AB3-A4E3-83EA758D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AD38-4A88-46A6-B264-AAF8FA0D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BB84-DD33-4336-86E1-B5E749B4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81FF-21F0-48BA-A5A7-EC11FE2F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AFFB-DEAA-4128-8630-CB43995A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020-01D6-45D4-8BA0-1D0BC0BC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BABC-E5A6-4C19-A004-2CF35E0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5D7-56BC-44D6-B6E0-FABE750B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0A207-0968-489E-AFBF-870B6E2D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F3B3-269B-4B27-BFBC-9B263DCE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A947-EFD5-4571-91AF-1B1FD8B6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9F9C-FB33-4282-BAEE-91C10F35F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36D-DD6E-413F-A06A-CA091AF7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7E5C2-1FFD-4584-9C15-0BE41F7E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955B-E611-4CED-8927-C62688C3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C2EC7-124E-4D17-93C3-7F12B517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4D3D-0909-4C58-897D-DAE26FDB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89CD-E5F5-46E7-9EE1-A265A00B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4B89-5B4F-4037-A77B-5BE1B2F6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A9C81-DE93-4CC4-A8A0-4ADC34F0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9BF75-CB24-49BA-9D16-788D429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5F960-40FF-4F7A-95EB-B499049D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8C996-255F-4AE2-80EF-6AF271B8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EC5A0-6B69-4794-95CC-A0D31022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8D00-E7F2-4962-A353-AFE8ACDF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B7528-F4CA-4769-AB50-86EA1505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D045F-F68C-4500-87CE-5F653A95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710F-F329-491B-BE4B-9EBD7027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DEC85-63F5-4A01-88A6-70BF6A36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529C-100C-4DB3-AA6B-C6A68240A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6CA7D-D20F-4168-A135-598299CE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3860-EFF4-423F-BDF8-F52AD581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E7CD0-0C9F-4CA7-81A6-4CB705EA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8593-39EA-4F9F-8D16-A604EC3C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239D-CD77-4594-8526-4857BAA7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D6A6F-9EA4-47F4-9A72-144A091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27CFB-344F-4F79-9A6B-01F4AD1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EF367-A19E-42C9-A991-488B860F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0FFA1-475E-4397-AED2-5DA70000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561CD-D31C-48E7-88D2-F742DC175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9D6C-5352-4C30-8493-04FA2EE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5673E-52BF-499F-B5F5-D508EDFB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4B259-669A-44A6-8FF5-85AC2F1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40CF1-A759-42C8-9A89-62951424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1066E-94A6-4CFB-8E74-7136CA2E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A4371-880B-4BE6-B174-D1AC22C2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9F47-E40D-4C1C-BCC8-8D5F288B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3BC3-B0DD-4356-A6C7-C8B2D16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66A0-D315-4133-B94F-3DC72ECD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AA32F-0471-491A-85EB-310BD6F6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0E520-34F0-485A-9CF2-C398C2DF0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817-6972-47AA-BBD8-80D915C0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3C02E-A80B-45A0-9842-942C259B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1AEB-B400-40D8-8D10-DB582879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57DC-A1EC-4FB5-BB54-6609EC75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75B-EFE1-4315-9FBA-DA556F13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A600-F91B-4F8C-9F4A-526C0239BDF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D882-93F4-4500-934B-906D24AB3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28440" y="6126120"/>
            <a:ext cx="920880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457200" y="4941720"/>
            <a:ext cx="831960" cy="161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00FB-9AC1-4A69-A595-05DFC1E603F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04FA-6AA7-4E08-90E0-ADF463780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EC1C-0A4B-4D8F-A946-F88A031AF5EF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8E64-F7F6-449C-8B89-0CAFF7BCBE1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2BC9-5148-4E3E-BFBA-749C689163B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9F4B-87C2-42A5-A396-E99E9DCD11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8440" y="6126120"/>
            <a:ext cx="920880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956720" y="4602240"/>
            <a:ext cx="1060200" cy="16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31E7-800C-49BF-B7A5-3502A9C7314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7163-EE08-4595-8859-39BD3D9E1B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28440" y="6126120"/>
            <a:ext cx="9208800" cy="758880"/>
          </a:xfrm>
          <a:prstGeom prst="rect">
            <a:avLst/>
          </a:prstGeom>
          <a:solidFill>
            <a:srgbClr val="845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81080" y="5164200"/>
            <a:ext cx="898560" cy="15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6880" y="2565360"/>
            <a:ext cx="5542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漫画风格</a:t>
            </a:r>
            <a:r>
              <a:rPr b="0" lang="zh-CN" sz="44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6880" y="3736800"/>
            <a:ext cx="554364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6229440" y="1413000"/>
            <a:ext cx="2367000" cy="4076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396720" y="5497560"/>
            <a:ext cx="789120" cy="13683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322280" y="5213520"/>
            <a:ext cx="844560" cy="163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2338560" y="5446800"/>
            <a:ext cx="915840" cy="14191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720960" y="2649600"/>
            <a:ext cx="1498680" cy="1500120"/>
          </a:xfrm>
          <a:prstGeom prst="ellipse">
            <a:avLst/>
          </a:prstGeom>
          <a:solidFill>
            <a:srgbClr val="845866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ectangle 3" descr=""/>
          <p:cNvPicPr/>
          <p:nvPr/>
        </p:nvPicPr>
        <p:blipFill>
          <a:blip r:embed="rId2"/>
          <a:stretch/>
        </p:blipFill>
        <p:spPr>
          <a:xfrm>
            <a:off x="4083120" y="2852640"/>
            <a:ext cx="641160" cy="1109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781440" y="988920"/>
            <a:ext cx="1365120" cy="13669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81600" y="1189080"/>
            <a:ext cx="96516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2160000">
            <a:off x="5103360" y="2038320"/>
            <a:ext cx="363600" cy="46188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2160000">
            <a:off x="5114520" y="2098440"/>
            <a:ext cx="254160" cy="27756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42120" y="2195640"/>
            <a:ext cx="1366560" cy="136656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41920" y="2395440"/>
            <a:ext cx="9669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6480000">
            <a:off x="5627880" y="3615120"/>
            <a:ext cx="363240" cy="4604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7280000">
            <a:off x="5700600" y="3654000"/>
            <a:ext cx="254160" cy="27648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807080" y="4149720"/>
            <a:ext cx="1366560" cy="13651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06880" y="4349880"/>
            <a:ext cx="9669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0800000">
            <a:off x="4292640" y="4600440"/>
            <a:ext cx="363600" cy="4622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402080" y="4694400"/>
            <a:ext cx="254160" cy="27612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54360" y="4149720"/>
            <a:ext cx="1366920" cy="136512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954160" y="4349880"/>
            <a:ext cx="9669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rot="15120000">
            <a:off x="2940840" y="3634200"/>
            <a:ext cx="363240" cy="46008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4320000">
            <a:off x="3012480" y="3778200"/>
            <a:ext cx="2556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120760" y="2195640"/>
            <a:ext cx="1365480" cy="1366560"/>
          </a:xfrm>
          <a:prstGeom prst="ellipse">
            <a:avLst/>
          </a:prstGeom>
          <a:solidFill>
            <a:srgbClr val="845866">
              <a:alpha val="8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20920" y="2395440"/>
            <a:ext cx="965160" cy="96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3200" rIns="43200" tIns="43200" bIns="43200" anchor="ctr">
            <a:noAutofit/>
          </a:bodyPr>
          <a:p>
            <a:pPr algn="ctr">
              <a:lnSpc>
                <a:spcPct val="90000"/>
              </a:lnSpc>
              <a:spcAft>
                <a:spcPts val="14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宋体"/>
                <a:ea typeface="方正稚艺简体"/>
              </a:rPr>
              <a:t>文本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440000">
            <a:off x="3443400" y="2050920"/>
            <a:ext cx="363600" cy="460440"/>
          </a:xfrm>
          <a:prstGeom prst="rightArrow">
            <a:avLst>
              <a:gd name="adj1" fmla="val 60000"/>
              <a:gd name="adj2" fmla="val 50000"/>
            </a:avLst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440000">
            <a:off x="3454200" y="2174760"/>
            <a:ext cx="253800" cy="277920"/>
          </a:xfrm>
          <a:prstGeom prst="rect">
            <a:avLst/>
          </a:prstGeom>
          <a:solidFill>
            <a:srgbClr val="84586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32000" y="2420640"/>
            <a:ext cx="47498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方正稚艺简体"/>
                <a:ea typeface="方正稚艺简体"/>
              </a:rPr>
              <a:t>谢谢观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229440" y="1413000"/>
            <a:ext cx="2367000" cy="4076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650600" y="630864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xiang</cp:lastModifiedBy>
  <dcterms:modified xsi:type="dcterms:W3CDTF">2015-01-08T08:16:0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