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15236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5600" y="971640"/>
            <a:ext cx="58323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5600" y="3656520"/>
            <a:ext cx="58323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5600" y="97164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44320" y="97164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5600" y="365652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944320" y="365652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5600" y="971640"/>
            <a:ext cx="18777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971640"/>
            <a:ext cx="18777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99760" y="971640"/>
            <a:ext cx="18777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5600" y="3656520"/>
            <a:ext cx="18777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927680" y="3656520"/>
            <a:ext cx="18777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899760" y="3656520"/>
            <a:ext cx="18777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BF1-B56E-4C50-93A6-F77807D5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955600" y="971640"/>
            <a:ext cx="5832360" cy="51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C02-EAD6-48C9-94BD-F853DA7E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55600" y="971640"/>
            <a:ext cx="5832360" cy="51400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9D2-D120-48BA-8FE6-A431EB49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955600" y="971640"/>
            <a:ext cx="2846160" cy="51400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44320" y="971640"/>
            <a:ext cx="2846160" cy="51400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83F-0829-4AE2-A714-CA4544B2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5A38-1326-4D08-960D-DD51FB5B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9080" y="5455800"/>
            <a:ext cx="2160360" cy="13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716-016A-4CFC-9BF2-BDCB2080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5600" y="97164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44320" y="971640"/>
            <a:ext cx="2846160" cy="51400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955600" y="365652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07D-7501-4BF8-BB0E-A5E8CFBA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5600" y="971640"/>
            <a:ext cx="5832360" cy="51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5600" y="971640"/>
            <a:ext cx="2846160" cy="51400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44320" y="97164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4320" y="365652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709-172A-46BB-B542-936E33CE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5600" y="97164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4320" y="97164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955600" y="3656520"/>
            <a:ext cx="58323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6B3-D12A-422D-8594-473AA54F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55600" y="971640"/>
            <a:ext cx="58323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955600" y="3656520"/>
            <a:ext cx="58323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E46-6910-428D-B38A-D74CB8B2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55600" y="97164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44320" y="97164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955600" y="365652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44320" y="365652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4C77-67BD-42AE-BE89-D1471D88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55600" y="971640"/>
            <a:ext cx="18777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7680" y="971640"/>
            <a:ext cx="18777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99760" y="971640"/>
            <a:ext cx="18777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955600" y="3656520"/>
            <a:ext cx="18777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927680" y="3656520"/>
            <a:ext cx="18777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899760" y="3656520"/>
            <a:ext cx="18777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0A7-4BF0-4AFC-8CE5-8F450A40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5600" y="971640"/>
            <a:ext cx="5832360" cy="51400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5600" y="971640"/>
            <a:ext cx="2846160" cy="51400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944320" y="971640"/>
            <a:ext cx="2846160" cy="51400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49080" y="5455800"/>
            <a:ext cx="2160360" cy="13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5600" y="97164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4320" y="971640"/>
            <a:ext cx="2846160" cy="51400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5600" y="365652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5600" y="971640"/>
            <a:ext cx="2846160" cy="51400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44320" y="97164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44320" y="365652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5600" y="97164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44320" y="971640"/>
            <a:ext cx="28461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5600" y="3656520"/>
            <a:ext cx="5832360" cy="24516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047" r="0" b="0"/>
          <a:stretch/>
        </p:blipFill>
        <p:spPr>
          <a:xfrm>
            <a:off x="1440" y="4680"/>
            <a:ext cx="1152216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55600" y="971640"/>
            <a:ext cx="5832360" cy="51400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7360" indent="-38736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2220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90600" indent="-25884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806480" indent="-258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322360" indent="-258480">
              <a:spcBef>
                <a:spcPts val="499"/>
              </a:spcBef>
              <a:buClr>
                <a:srgbClr val="003399"/>
              </a:buClr>
              <a:buFont typeface="Arial"/>
              <a:buChar char="»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322360" indent="-258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322360" indent="-258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133000" y="6556320"/>
            <a:ext cx="4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6B41-E5A9-460E-8C49-8CDE2C82F389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rcRect l="0" t="1047" r="20066" b="0"/>
          <a:stretch/>
        </p:blipFill>
        <p:spPr>
          <a:xfrm>
            <a:off x="1440" y="4680"/>
            <a:ext cx="11522160" cy="688824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rcRect l="79545" t="13207" r="0" b="23618"/>
          <a:stretch/>
        </p:blipFill>
        <p:spPr>
          <a:xfrm>
            <a:off x="649440" y="468360"/>
            <a:ext cx="3078000" cy="574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33800" y="2268000"/>
            <a:ext cx="6770880" cy="1467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576360" y="6229440"/>
            <a:ext cx="2689200" cy="474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936960" y="6229440"/>
            <a:ext cx="3649680" cy="474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8258040" y="6229440"/>
            <a:ext cx="2689200" cy="474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F13C-D15D-4B31-9A8F-3C6BD253F85E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15880" indent="0" algn="ctr">
              <a:spcBef>
                <a:spcPts val="774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31760" algn="ctr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547640" algn="ctr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63880" algn="ctr">
              <a:spcBef>
                <a:spcPts val="499"/>
              </a:spcBef>
              <a:buClr>
                <a:srgbClr val="003399"/>
              </a:buClr>
              <a:buFont typeface="Arial"/>
              <a:buChar char="»"/>
              <a:tabLst>
                <a:tab algn="l" pos="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63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63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33800" y="2268000"/>
            <a:ext cx="6770880" cy="1467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魔幻女巫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模板下载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106520" y="3780000"/>
            <a:ext cx="6551640" cy="839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665560" y="5580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9080" y="1117080"/>
            <a:ext cx="2160360" cy="4822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 anchorCtr="1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55600" y="971640"/>
            <a:ext cx="5832360" cy="51400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10671120" cy="6838920"/>
            <a:chOff x="0" y="0"/>
            <a:chExt cx="10671120" cy="6838920"/>
          </a:xfrm>
        </p:grpSpPr>
        <p:sp>
          <p:nvSpPr>
            <p:cNvPr id="89" name="矩形 4"/>
            <p:cNvSpPr/>
            <p:nvPr/>
          </p:nvSpPr>
          <p:spPr>
            <a:xfrm>
              <a:off x="1607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09640"/>
              <a:ext cx="10671120" cy="51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2364120" y="3567600"/>
              <a:ext cx="58827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6:03:33Z</dcterms:created>
  <dc:creator/>
  <dc:description/>
  <dc:language>en-US</dc:language>
  <cp:lastModifiedBy/>
  <dcterms:modified xsi:type="dcterms:W3CDTF">2015-01-09T03:44:4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