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CAC-A915-4CC6-8776-78285255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06F-857F-4EBB-97A0-86DE43A6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9AA-311D-4A0B-9D82-3088B314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830-1310-4DB7-8C8D-FA49FB4B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CE1B-303C-4166-B4B9-75016E0B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F3D0-8F73-48AA-A844-8039E801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5BC2-D609-4779-923A-72E78467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B78D-0912-49DC-901A-D7BEC949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F1B1-0E2D-434C-A6E5-08D458AD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23DB-7061-462C-BA24-AAC7005A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B591-9812-415A-B90A-C23B053D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BB7-6272-41DC-AC8E-4B808693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9AA6-1D09-4D72-B542-4C00A3D7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511F-1911-450C-9A0F-E1F2B82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EFC3-9EF9-4B04-8804-82C47B59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68C3-FC77-4E39-9E01-4D3FEB9E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072E-FC01-4212-8A1E-C0BA88AB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E7B5-9834-44B8-AA29-1F73637F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CC1-E252-4BA4-A7EA-E0C2AD85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6B7-01FD-4B87-AFB2-E5DFB4D2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3AD-382D-48B7-ACCD-FEEDC13A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00A-6D2E-4333-994E-A5BBF72C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5A5-5745-497C-A0C9-0F85969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DDE-4FC1-434E-B506-8F0DDF8E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6D0B-3DC5-4440-B8B3-4DAF253BC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93C3-7205-4E87-A905-F09715E9F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987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</a:rPr>
              <a:t>梦幻气球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45080" y="3357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  <a:ea typeface="微软雅黑"/>
              </a:rPr>
              <a:t>作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0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欢迎使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15:03:39Z</dcterms:created>
  <dc:creator/>
  <dc:description/>
  <dc:language>en-US</dc:language>
  <cp:lastModifiedBy/>
  <dcterms:modified xsi:type="dcterms:W3CDTF">2015-01-08T08:22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