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A90-D424-4057-BC2B-CED41B5E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26C-E398-4D41-8B53-A83C0C85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1CB-41DC-4FD1-9EB3-0F0BF036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760-A451-4320-9303-0B682617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BB58-9E65-46DA-A133-640231E3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682F-1CA9-4672-BDBF-8854A831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E45F-73FB-493A-AF5F-B2BD6355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0D28-FA1E-4F45-B139-325A7CF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4B54-A111-4BB4-9DA4-B7674DDC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E3A9-1E16-471B-BD0E-48F8E3B4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BB2B-7712-48A0-9C69-A77FC33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CCD-5291-4F78-AB44-3694F68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0BD4-EB1A-4174-9A16-6CD6E0F8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AA6B-FF0D-499E-8D33-6F2621AA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B89B-42C3-46AC-895E-4A9CF9FF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683D-8711-40F2-8610-37380855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1007-D847-42FC-B9B7-223AF0DC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1B0-0FB8-42E5-87B4-2ABC30F6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AB5-B169-477A-975C-B24EC3A8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F99-90A1-41BC-9019-81F6FE56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20B-A8A4-439F-A5CE-BEEEF81B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7F7-B05F-4247-8E15-BA07AF0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BB8-029A-42A1-87AD-3D793EE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E7A-DA10-48EF-AE8F-AB47FCD6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1">
                <a:alpha val="0"/>
              </a:srgbClr>
            </a:gs>
            <a:gs pos="100000">
              <a:srgbClr val="ffeb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42764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" name="Picture 2" descr="C:\Users\Administrator\Desktop\enterdesk_com-64864CDED7A98DDE8AA10EC22B26686E.jpg"/>
          <p:cNvPicPr/>
          <p:nvPr/>
        </p:nvPicPr>
        <p:blipFill>
          <a:blip r:embed="rId2"/>
          <a:stretch/>
        </p:blipFill>
        <p:spPr>
          <a:xfrm>
            <a:off x="-3240" y="4570560"/>
            <a:ext cx="9147240" cy="228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A93-D17F-4232-ABE1-E860D6850733}" type="slidenum">
              <a:rPr b="0" lang="zh-CN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1">
                <a:alpha val="0"/>
              </a:srgbClr>
            </a:gs>
            <a:gs pos="100000">
              <a:srgbClr val="ffeb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enterdesk_com-64864CDED7A98DDE8AA10EC22B26686E.jpg"/>
          <p:cNvPicPr/>
          <p:nvPr/>
        </p:nvPicPr>
        <p:blipFill>
          <a:blip r:embed="rId2"/>
          <a:stretch/>
        </p:blipFill>
        <p:spPr>
          <a:xfrm>
            <a:off x="5235480" y="0"/>
            <a:ext cx="3917880" cy="979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0" y="0"/>
            <a:ext cx="8028000" cy="979560"/>
          </a:xfrm>
          <a:prstGeom prst="rect">
            <a:avLst/>
          </a:prstGeom>
          <a:gradFill rotWithShape="0">
            <a:gsLst>
              <a:gs pos="0">
                <a:srgbClr val="ffe5dc"/>
              </a:gs>
              <a:gs pos="100000">
                <a:srgbClr val="fe863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CC65-AAC7-4CF1-B6BD-E392C84A5FF9}" type="slidenum">
              <a:rPr b="0" lang="zh-CN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1">
                <a:alpha val="0"/>
              </a:srgbClr>
            </a:gs>
            <a:gs pos="100000">
              <a:srgbClr val="ffeb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米黄色简约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mbria"/>
            </a:endParaRPr>
          </a:p>
        </p:txBody>
      </p:sp>
      <p:sp>
        <p:nvSpPr>
          <p:cNvPr id="89" name=""/>
          <p:cNvSpPr/>
          <p:nvPr/>
        </p:nvSpPr>
        <p:spPr>
          <a:xfrm>
            <a:off x="80640" y="6381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mbria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1">
                <a:alpha val="0"/>
              </a:srgbClr>
            </a:gs>
            <a:gs pos="100000">
              <a:srgbClr val="ffeb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mbri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8:33:45Z</dcterms:created>
  <dc:creator/>
  <dc:description/>
  <dc:language>en-US</dc:language>
  <cp:lastModifiedBy>zouendong</cp:lastModifiedBy>
  <dcterms:modified xsi:type="dcterms:W3CDTF">2015-01-08T12:36:4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