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05C-0505-4753-96D2-0DAA108B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225-84CE-4427-8C93-42933CDB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D79-B1DD-4ED5-BE1C-730960D1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624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976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272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624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976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D07-2003-4C14-B9F2-28F1DD9F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43CF-2DBB-48D8-B9D0-44AC4507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C1FD-232D-41A8-BCB8-D7ECCB5A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4850-E86E-41C6-A465-852AD2D0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429-1196-4C25-9524-BE41813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539F-8A4B-4AD9-A837-A90F0DB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052720" y="274320"/>
            <a:ext cx="663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B031-4783-4D46-87FE-A4A6422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09D2-0769-4102-B5E4-08CA40F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2EB-718B-4BAE-B64E-50940EB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B71-4F51-45AF-8A90-E073C58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3B8-E861-4CA0-AA32-8E712614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DB59-BB67-451A-9874-BACAC660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459B-461D-4EA9-8657-FDB63368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624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39760" y="160020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272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624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39760" y="3964320"/>
            <a:ext cx="2136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667D-F3D5-413C-8AF6-BDD75E4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F0D-332F-43F5-A708-7CC2F5D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098-B858-4B58-8484-D33B2AC1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0C1-0479-44BB-86C2-D64EDE0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2720" y="274320"/>
            <a:ext cx="663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28C-D0A1-4D4F-A3C6-0F8B649A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CBC-0098-43B9-A3A4-BA562EA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2920" y="396432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B2D-2992-4EBA-949C-1D1C8C7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27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2920" y="1600200"/>
            <a:ext cx="323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2720" y="3964320"/>
            <a:ext cx="663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DD9-F156-41F1-9E08-B5043A45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8418" t="276" r="43755" b="0"/>
          <a:stretch/>
        </p:blipFill>
        <p:spPr>
          <a:xfrm>
            <a:off x="-27000" y="-9360"/>
            <a:ext cx="1682640" cy="690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2720" y="1600200"/>
            <a:ext cx="66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A20-39C8-470F-B48E-8E4DCC8B04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92720" y="148608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7208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844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844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8440" indent="-1530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2AC4-471A-4EF9-86CE-0B70139D21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3646440"/>
            <a:ext cx="910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40" y="4076640"/>
            <a:ext cx="9142560" cy="1989000"/>
            <a:chOff x="1440" y="4076640"/>
            <a:chExt cx="9142560" cy="1989000"/>
          </a:xfrm>
        </p:grpSpPr>
        <p:sp>
          <p:nvSpPr>
            <p:cNvPr id="49" name=""/>
            <p:cNvSpPr/>
            <p:nvPr/>
          </p:nvSpPr>
          <p:spPr>
            <a:xfrm>
              <a:off x="1440" y="4076640"/>
              <a:ext cx="9142560" cy="1989000"/>
            </a:xfrm>
            <a:prstGeom prst="rect">
              <a:avLst/>
            </a:prstGeom>
            <a:solidFill>
              <a:srgbClr val="bdb6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0" y="4076640"/>
              <a:ext cx="9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0" y="6065640"/>
              <a:ext cx="9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0" y="4076640"/>
              <a:ext cx="0" cy="19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0" y="4076640"/>
              <a:ext cx="0" cy="19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160" y="6381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Impact"/>
              </a:rPr>
              <a:t>使用规范说明</a:t>
            </a:r>
            <a:endParaRPr b="1" lang="en-US" sz="4000" spc="-1" strike="noStrike">
              <a:solidFill>
                <a:srgbClr val="0033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1-09T03:42:4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