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1113-27D7-458F-A760-EF85F040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333000"/>
            <a:ext cx="8915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413000"/>
            <a:ext cx="89154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874680"/>
            <a:ext cx="89154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E2A5-814A-4FD6-BA59-288E00FB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333000"/>
            <a:ext cx="8915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413000"/>
            <a:ext cx="4350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413000"/>
            <a:ext cx="4350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874680"/>
            <a:ext cx="4350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874680"/>
            <a:ext cx="4350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2241-9A2F-46FE-B0BD-4E4A1091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333000"/>
            <a:ext cx="8915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413000"/>
            <a:ext cx="28706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413000"/>
            <a:ext cx="28706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413000"/>
            <a:ext cx="28706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874680"/>
            <a:ext cx="28706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874680"/>
            <a:ext cx="28706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874680"/>
            <a:ext cx="28706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8200-38A5-498F-8C81-2C1D4314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333000"/>
            <a:ext cx="8915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413000"/>
            <a:ext cx="89154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333000"/>
            <a:ext cx="8915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413000"/>
            <a:ext cx="89154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333000"/>
            <a:ext cx="8915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413000"/>
            <a:ext cx="4350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413000"/>
            <a:ext cx="4350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333000"/>
            <a:ext cx="8915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333000"/>
            <a:ext cx="89154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333000"/>
            <a:ext cx="8915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413000"/>
            <a:ext cx="4350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413000"/>
            <a:ext cx="4350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874680"/>
            <a:ext cx="4350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333000"/>
            <a:ext cx="8915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413000"/>
            <a:ext cx="89154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27FA-9CBE-4BFA-82F3-FED33EF4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333000"/>
            <a:ext cx="8915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413000"/>
            <a:ext cx="4350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413000"/>
            <a:ext cx="4350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874680"/>
            <a:ext cx="4350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333000"/>
            <a:ext cx="8915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413000"/>
            <a:ext cx="4350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413000"/>
            <a:ext cx="4350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874680"/>
            <a:ext cx="89154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333000"/>
            <a:ext cx="8915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413000"/>
            <a:ext cx="89154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874680"/>
            <a:ext cx="89154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333000"/>
            <a:ext cx="8915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413000"/>
            <a:ext cx="4350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413000"/>
            <a:ext cx="4350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874680"/>
            <a:ext cx="4350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874680"/>
            <a:ext cx="4350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333000"/>
            <a:ext cx="8915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413000"/>
            <a:ext cx="28706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413000"/>
            <a:ext cx="28706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413000"/>
            <a:ext cx="28706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874680"/>
            <a:ext cx="28706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874680"/>
            <a:ext cx="28706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874680"/>
            <a:ext cx="28706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33000"/>
            <a:ext cx="8915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413000"/>
            <a:ext cx="89154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4BB8-BB07-4CBB-9725-E3D5AC84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333000"/>
            <a:ext cx="8915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413000"/>
            <a:ext cx="4350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413000"/>
            <a:ext cx="4350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C2C-B0B6-451B-B0E8-2717BB1F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333000"/>
            <a:ext cx="8915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EC55-D045-415F-9E42-09005972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333000"/>
            <a:ext cx="89154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8003-BB5C-4D04-B003-24184CB2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333000"/>
            <a:ext cx="8915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413000"/>
            <a:ext cx="4350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413000"/>
            <a:ext cx="4350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874680"/>
            <a:ext cx="4350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E76C-137A-446E-BEF8-03B38BFE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333000"/>
            <a:ext cx="8915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413000"/>
            <a:ext cx="4350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413000"/>
            <a:ext cx="4350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874680"/>
            <a:ext cx="4350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AB86-27C4-431D-BED0-CB8DB2D9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333000"/>
            <a:ext cx="8915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413000"/>
            <a:ext cx="4350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413000"/>
            <a:ext cx="4350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874680"/>
            <a:ext cx="89154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EEF4-E47B-4892-B87D-06E6F766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333000"/>
            <a:ext cx="8915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413000"/>
            <a:ext cx="89154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DED3-A6AA-4A33-A417-38DBCA9A37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6160" y="1483920"/>
            <a:ext cx="8420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6160" y="1483920"/>
            <a:ext cx="8420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魅力红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496880" y="2781360"/>
            <a:ext cx="69343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11880" y="63086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333000"/>
            <a:ext cx="8915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000" y="1413000"/>
            <a:ext cx="89154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9172440" cy="6858000"/>
            <a:chOff x="0" y="0"/>
            <a:chExt cx="9172440" cy="6858000"/>
          </a:xfrm>
        </p:grpSpPr>
        <p:sp>
          <p:nvSpPr>
            <p:cNvPr id="85" name="矩形 4"/>
            <p:cNvSpPr/>
            <p:nvPr/>
          </p:nvSpPr>
          <p:spPr>
            <a:xfrm>
              <a:off x="9075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917244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Box 7"/>
            <p:cNvSpPr/>
            <p:nvPr/>
          </p:nvSpPr>
          <p:spPr>
            <a:xfrm rot="20926800">
              <a:off x="2080080" y="3572280"/>
              <a:ext cx="505656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3333cc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3333cc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3333cc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1T13:51:56Z</dcterms:created>
  <dc:creator>kangyujia</dc:creator>
  <dc:description/>
  <dc:language>en-US</dc:language>
  <cp:lastModifiedBy>Administrator</cp:lastModifiedBy>
  <dcterms:modified xsi:type="dcterms:W3CDTF">2015-01-09T03:54:21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