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D81-76C3-4035-B52E-A5471B99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64D-2331-4670-B37A-1BC6C83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055-9903-427E-8C18-94535D67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B34-2D0F-4714-A497-3A7AAC83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EF00-FFB1-4B10-82A6-3F0EF1E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4CA0-2A44-49B4-A9DF-6D8A23CB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F897-CF47-433C-9994-F175251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7920-1035-441A-AC0A-5AC1E06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D91-6399-4765-B60F-2A478EB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9D7-6910-48A9-B0DC-3093274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3EE8-1C09-4A68-8606-20A1B35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E08-AA4E-4CA4-9CCD-DE2AC55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33D-EF62-479C-A7D9-72CB38A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EAC-391D-49AE-B695-75F868F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752C-B35A-41FD-B21C-5641940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8415-22D9-4754-8DF7-AAB527A3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6AA0-6A9F-4354-B755-4B9A5B9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AA3-A56C-4BD4-AC5D-C0BD8A6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360-C7E5-4175-8F35-DB468C3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791-016B-481C-BFD4-C066710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F2D-C4B7-4DB0-AD44-84B752F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EBF-3089-4813-BA4D-964FCF8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97A-A8B6-443C-AC1E-817C66B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30A-7141-4B91-AE8A-D30F945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A62-B18D-420A-8CCF-637002F7A1A6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0E8-81DF-45D4-AC92-AC1CA5795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35160" y="117360"/>
            <a:ext cx="6676920" cy="6769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437520" y="206064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4537080" cy="302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0" y="406440"/>
            <a:ext cx="38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远古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51656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7280" y="4581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说文解字》：“娲，古之神圣女，化万物者也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《山海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荒西经》郭璞注：“女娲，古神女而帝者，人面蛇身，一日中七十变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淮南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林篇》：“黄帝生阴阳，上骈生耳目，桑林生臂手，此娲所以七十化也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太平御览》卷七八引《风俗通》：“俗说天地开辟，未有人民，女娲抟黄土作人，剧务力不暇供，乃引绳于泥中，举以为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1120000">
            <a:off x="968400" y="1254240"/>
            <a:ext cx="3152880" cy="268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80000">
            <a:off x="5398920" y="117144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1960" y="3938760"/>
            <a:ext cx="3289320" cy="2185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8800" y="556920"/>
            <a:ext cx="46767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21420000">
            <a:off x="3706920" y="1469520"/>
            <a:ext cx="3316320" cy="1656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謝謝欣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5480" y="765000"/>
            <a:ext cx="705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191772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木本乎根，人本乎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伏羲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姓氏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远古遗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0" y="9360"/>
            <a:ext cx="471492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164360" y="1119240"/>
            <a:ext cx="720720" cy="26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壹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8" name=""/>
          <p:cNvSpPr/>
          <p:nvPr/>
        </p:nvSpPr>
        <p:spPr>
          <a:xfrm>
            <a:off x="4092480" y="324648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木本乎根，人本乎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3414600" cy="4005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471816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木本乎根，人本乎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对于历史的认识的本身也是历史性的。作为一种文化现象，对于民族先祖的认定，是从远古的传说到有文字记载的历史，在一个相当长的历史时期中逐渐确立起来的。“三皇五帝”为中华民族的人文始祖，其世系位序的排列在春秋战国到秦汉时期已逐步确立。“三皇五帝”的世系之中，太昊伏羲氏位居“三皇之首”、“百王之先”，是居神农、黄帝之前的中华民族的人文始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547800" y="3018960"/>
            <a:ext cx="34002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伏羲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948360" y="1968480"/>
            <a:ext cx="935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0" y="-9360"/>
            <a:ext cx="350676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41403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伏羲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太昊伏羲是三皇之首，百王之先，中华民族的人文始祖，伏羲文化是中华民族的根文化。他生于甘肃天水，建都和长眠于宛丘（今河南淮阳）。他以圣德统一了各个部落，肇启了华夏文明。他一生有十二大功绩，后裔感其功德卓著，自宛丘北上南进，播迁四海，一直沿用其名号，直至炎黄。他被神化，而不是神话。全国纪念庙和纪念地不计其数，太昊陵庙占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亩，数千年祭祀不衰，乃“天下第一陵”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95640" y="3070080"/>
            <a:ext cx="2084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姓氏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32720" y="1496880"/>
            <a:ext cx="792000" cy="28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60" y="28440"/>
            <a:ext cx="3529080" cy="4050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0" y="260280"/>
            <a:ext cx="40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姓氏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2880" y="2495520"/>
            <a:ext cx="82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姓在我国众多的姓氏中，若按人口来说，是中国的第五大姓。陈姓最早出自妫姓，是舜帝的后裔。周武王建立周朝以后，找到舜的后人胡公满，封他在陈这个地方，建立陈国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姓除了源于国名，还有从其他姓氏改名而来的，其中有一支是由少数民族改姓而成的。据《魏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官氏志》记载，北魏时期鲜卑贵族侯莫陈氏随北魏孝文帝迁都洛阳后，将侯莫陈改为单姓陈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4480" y="2854440"/>
            <a:ext cx="19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远古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516720" y="2333520"/>
            <a:ext cx="122400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肆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60" y="31680"/>
            <a:ext cx="3529080" cy="404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/>
  <dcterms:modified xsi:type="dcterms:W3CDTF">2015-01-08T08:26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