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5747-2CDE-4C6C-84EF-7911ABB2C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75A6-B5BB-4AD2-A3DA-A855A470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F5D7-B290-4CF4-B6E9-3461858C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0775-F60C-40CA-BA5E-0F22715E9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B30A-A14E-470A-B0BC-2CD7CD24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17CB-AC09-449B-8150-56060718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C488-1628-4133-A7D9-D8C087FB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CED5-E780-4DE1-BF10-448ADDAF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5C2A-E3DF-4532-881D-C09647F6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18BF-B76E-4C2E-8058-E9FF92ED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6F22-F220-4821-9158-23AF59AF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CBDF-2219-4657-80F5-5165C2BD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237B-18FC-418C-B91E-C463F922C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256,5,&#24187;&#28783;&#29255; 5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hyperlink" Target="256,5,&#24187;&#28783;&#29255; 5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hyperlink" Target="256,5,&#24187;&#28783;&#29255; 5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348000" y="476280"/>
            <a:ext cx="3457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楷体_GB2312"/>
              </a:rPr>
              <a:t>17 </a:t>
            </a:r>
            <a:r>
              <a:rPr b="1" lang="zh-CN" sz="1800" spc="-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楷体_GB2312"/>
              </a:rPr>
              <a:t>麋鹿</a:t>
            </a:r>
            <a:endParaRPr b="1" lang="en-US" sz="1800" spc="-1" strike="noStrike">
              <a:ln w="9360">
                <a:solidFill>
                  <a:srgbClr val="ff99cc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115920"/>
            <a:ext cx="35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Arial"/>
                <a:ea typeface="楷体_GB2312"/>
              </a:rPr>
              <a:t>苏教版小学语文第十一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540120" y="638172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826920" y="119700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从此，麋鹿结束了它们大半个世纪在海外漂泊不定、颠沛流离的生涯，开始了回归故土、回归自然的新生活。如今，这群珍异动物正在祖国的土地上繁衍后代，茁壮成长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22960" y="6165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00000" y="1341360"/>
            <a:ext cx="7704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1692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134136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麋鹿是鹿的一种。它的外形很奇特：角似鹿，面似马，蹄似牛，尾似驴，所以又被称作“四不像”。我国古代神话小说《封神榜》中把“四不像”当作姜子牙的坐骑，更增添了它的神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1680" y="-22320"/>
            <a:ext cx="9207360" cy="6907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197080" y="1123920"/>
            <a:ext cx="35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驯 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464000" cy="3384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716360" y="189000"/>
            <a:ext cx="4105440" cy="3527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979640" y="3716280"/>
            <a:ext cx="4859280" cy="3141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15240" y="-133200"/>
            <a:ext cx="60696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Arial"/>
                <a:ea typeface="黑体"/>
              </a:rPr>
              <a:t>雌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84320" y="200160"/>
            <a:ext cx="60696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雄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70640" y="3860640"/>
            <a:ext cx="10036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4"/>
              </a:rPr>
              <a:t>麋鹿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55760" y="623736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59760" y="62064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  <a:ea typeface="黑体"/>
              </a:rPr>
              <a:t>冬季的毛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995640" y="692280"/>
            <a:ext cx="5148360" cy="5400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712480" y="60958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Arial"/>
                <a:ea typeface="黑体"/>
              </a:rPr>
              <a:t>夏季的毛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60880" y="836640"/>
            <a:ext cx="66348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3"/>
              </a:rPr>
              <a:t>毛色的不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427640" cy="3657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27640" cy="3235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3284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427640" y="3284640"/>
            <a:ext cx="4716360" cy="3573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96360" y="2492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  <a:ea typeface="仿宋_GB2312"/>
              </a:rPr>
              <a:t>站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813080" y="2349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跋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720" y="3429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  <a:ea typeface="仿宋_GB2312"/>
              </a:rPr>
              <a:t>潜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813080" y="3429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  <a:ea typeface="仿宋_GB2312"/>
              </a:rPr>
              <a:t>觅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90840" y="2781360"/>
            <a:ext cx="20095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5"/>
              </a:rPr>
              <a:t>麋鹿的生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55640" y="1341000"/>
            <a:ext cx="6912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华文楷体"/>
                <a:ea typeface="华文楷体"/>
              </a:rPr>
              <a:t>梅花鹿的怀孕期：</a:t>
            </a:r>
            <a:r>
              <a:rPr b="1" lang="en-US" sz="4000" spc="-1" strike="noStrike">
                <a:solidFill>
                  <a:srgbClr val="333399"/>
                </a:solidFill>
                <a:latin typeface="华文楷体"/>
                <a:ea typeface="华文楷体"/>
              </a:rPr>
              <a:t>229±6</a:t>
            </a:r>
            <a:r>
              <a:rPr b="1" lang="zh-CN" sz="4000" spc="-1" strike="noStrike">
                <a:solidFill>
                  <a:srgbClr val="333399"/>
                </a:solidFill>
                <a:latin typeface="华文楷体"/>
                <a:ea typeface="华文楷体"/>
              </a:rPr>
              <a:t>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华文楷体"/>
                <a:ea typeface="华文楷体"/>
              </a:rPr>
              <a:t>东北马鹿的怀孕期：</a:t>
            </a:r>
            <a:r>
              <a:rPr b="1" lang="en-US" sz="4000" spc="-1" strike="noStrike">
                <a:solidFill>
                  <a:srgbClr val="333399"/>
                </a:solidFill>
                <a:latin typeface="华文楷体"/>
                <a:ea typeface="华文楷体"/>
              </a:rPr>
              <a:t>243±6</a:t>
            </a:r>
            <a:r>
              <a:rPr b="1" lang="zh-CN" sz="4000" spc="-1" strike="noStrike">
                <a:solidFill>
                  <a:srgbClr val="333399"/>
                </a:solidFill>
                <a:latin typeface="华文楷体"/>
                <a:ea typeface="华文楷体"/>
              </a:rPr>
              <a:t>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华文楷体"/>
                <a:ea typeface="华文楷体"/>
              </a:rPr>
              <a:t>天山马鹿：</a:t>
            </a:r>
            <a:r>
              <a:rPr b="1" lang="en-US" sz="4000" spc="-1" strike="noStrike">
                <a:solidFill>
                  <a:srgbClr val="333399"/>
                </a:solidFill>
                <a:latin typeface="华文楷体"/>
                <a:ea typeface="华文楷体"/>
              </a:rPr>
              <a:t>244±7</a:t>
            </a:r>
            <a:r>
              <a:rPr b="1" lang="zh-CN" sz="4000" spc="-1" strike="noStrike">
                <a:solidFill>
                  <a:srgbClr val="333399"/>
                </a:solidFill>
                <a:latin typeface="华文楷体"/>
                <a:ea typeface="华文楷体"/>
              </a:rPr>
              <a:t>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华文楷体"/>
                <a:ea typeface="华文楷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258920" y="1197000"/>
            <a:ext cx="568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90792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据科学家考证，早在</a:t>
            </a:r>
            <a:r>
              <a:rPr b="1" lang="en-US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3000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多年前，我国黄河、长江中下游地区就有麋鹿，但汉朝以后逐渐减少，再后来竟然销声匿迹。</a:t>
            </a:r>
            <a:r>
              <a:rPr b="1" lang="en-US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865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年，有人在北京南郊发现了</a:t>
            </a:r>
            <a:r>
              <a:rPr b="1" lang="en-US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20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头麋鹿，并撰文向全世界介绍。随后，数十头麋鹿被陆续盗往欧洲，在伦敦、巴黎和柏林等地动物园里展出。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612840" y="623736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00000" y="1413000"/>
            <a:ext cx="73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900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年，“八国联军”入侵北京，最后一群麋鹿惨遭厄运，有的被杀戮，有的被装上西去的轮船。从此，麋鹿在国内几乎绝迹。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16:13Z</dcterms:created>
  <dc:creator>软件仓库</dc:creator>
  <dc:description/>
  <dc:language>en-US</dc:language>
  <cp:lastModifiedBy>User</cp:lastModifiedBy>
  <dcterms:modified xsi:type="dcterms:W3CDTF">2015-01-08T08:36:00Z</dcterms:modified>
  <cp:revision>3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