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D2087CD-A719-4B43-B76E-15B58FBD963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8E22-D218-476C-8354-F9ADEFB817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35002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满满祝福圣诞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6572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1700280"/>
            <a:ext cx="8207280" cy="863640"/>
            <a:chOff x="457200" y="1700280"/>
            <a:chExt cx="8207280" cy="863640"/>
          </a:xfrm>
        </p:grpSpPr>
        <p:grpSp>
          <p:nvGrpSpPr>
            <p:cNvPr id="125" name=""/>
            <p:cNvGrpSpPr/>
            <p:nvPr/>
          </p:nvGrpSpPr>
          <p:grpSpPr>
            <a:xfrm>
              <a:off x="457200" y="1700280"/>
              <a:ext cx="8207280" cy="576360"/>
              <a:chOff x="457200" y="1700280"/>
              <a:chExt cx="8207280" cy="576360"/>
            </a:xfrm>
          </p:grpSpPr>
          <p:sp>
            <p:nvSpPr>
              <p:cNvPr id="126" name=""/>
              <p:cNvSpPr/>
              <p:nvPr/>
            </p:nvSpPr>
            <p:spPr>
              <a:xfrm>
                <a:off x="457200" y="1700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82840" y="1700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08120" y="1700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33760" y="1700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62640" y="1700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87920" y="1700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13560" y="1700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39200" y="1700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57200" y="2276640"/>
              <a:ext cx="8207280" cy="287280"/>
              <a:chOff x="457200" y="2276640"/>
              <a:chExt cx="8207280" cy="287280"/>
            </a:xfrm>
          </p:grpSpPr>
          <p:sp>
            <p:nvSpPr>
              <p:cNvPr id="135" name=""/>
              <p:cNvSpPr/>
              <p:nvPr/>
            </p:nvSpPr>
            <p:spPr>
              <a:xfrm>
                <a:off x="45720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828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081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337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626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879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135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3920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6040" y="28904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2959200" y="4006800"/>
            <a:ext cx="5718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9T04:03:56Z</dcterms:modified>
  <cp:revision>2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