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3017-0E1E-4D8E-BC8A-B20E3900B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9FAF-44ED-48C5-ABBA-6AA771A09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386A-DC52-4F35-95C8-855AB0D6C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6C8A-5747-4900-AFB6-E33C23040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14480" y="376200"/>
            <a:ext cx="519768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9881-1ACC-410C-919A-25D844445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1DBE-8D8C-4036-A2DF-67E1350BE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8F82-74FE-4BA2-82B3-E7919E904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CE56-1E80-4882-AFD9-D77F9FD79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14480" y="376200"/>
            <a:ext cx="519768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6456-9EA7-4FCD-8B17-53EC17A53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0D8C-239F-44B9-BCAB-343899735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38FD-31F4-424C-89AF-10EFDC4B6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4249-5999-4FC0-B9D4-4285AEA66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016EE31-2034-4D21-BC53-2D22639D493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914480" y="376200"/>
            <a:ext cx="5197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097760" y="333360"/>
            <a:ext cx="15778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80600" y="529236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277920"/>
            <a:ext cx="2343240" cy="105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744240" y="6424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E78F-D0CC-4628-8853-FCC92E086F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468360" y="31640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277920"/>
            <a:ext cx="2343240" cy="1050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32360" y="6516720"/>
            <a:ext cx="43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017D-2963-4FA4-8C8F-48B396D53D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62BD-C8FC-4B3D-BBE8-CA65F3364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7T14:21:14Z</dcterms:modified>
  <cp:revision>1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