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87EB-6D4C-46B3-8552-191412E8C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5819-D4F4-4118-92D1-7D536D6E9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52BD-68D1-4AB4-B972-BBD196E65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CA25-2544-4909-90F9-9FCA491C3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F7C5-D4A2-4524-8830-0D1397EAE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F638-87CA-4520-84BE-E37566A70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14AD-EFC2-4A2B-BF01-B03515CBF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5B0D-9559-473E-81A9-337FE1000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81B3-1644-425A-A5E8-B120059E6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22EA-AD93-4385-A30E-A0066DBDE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C660-C0BB-4C10-8E42-F551723AA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2E0D-4C28-4FDE-BCB7-CF1362DE0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191EC48-763F-4656-A52B-30E35BB6772C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41416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e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41416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80600" y="349380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EC2A-2925-4452-850E-FAB1D91083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468360" y="2233440"/>
            <a:ext cx="82072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18400" y="6404040"/>
            <a:ext cx="48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http://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57C7-A76C-4B75-ADBA-954A601449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5800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5800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5800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8BA5-D8D1-4FED-BB3E-13A844472C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7T14:22:59Z</dcterms:modified>
  <cp:revision>1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