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6A0-95B5-4EB5-BD2F-E971827F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0565-9BDA-43FE-982C-52892873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101B-D01B-45E5-A8CC-CABD5C41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0AC-E76F-43AC-90F1-FFA34B8D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76C8-1A1B-47CC-8405-5671A1E1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6642-DFF8-4D94-89CC-3580FF39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C656-6B46-45C0-9239-6F8A1FB1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3791-63F8-4212-BB23-4DCBC4F1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3C34-0F58-45DD-9DC4-EFE738D1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755D-4F40-45DF-91E2-808B855E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6ECE-C820-4DC2-9F52-D3583BF0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EF5-52D4-4051-913A-A7A58DAA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57CE-67D1-4461-A504-A33C3E3E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4127-1D89-4B58-88F1-97888B5E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31E1-B068-4CC8-A610-886DCBA5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92CE-2F28-4D94-B6EE-74FF36EE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4A4A-8D55-4DBC-BB53-33DF2A8B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C49-A221-404A-9F1C-99A0F208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2C4-065A-44FE-9470-8698F8F2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432-E2C5-406C-A573-5FE13CA2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459-7C9D-4D6C-B499-B1E5D65C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0722-BF14-4FEF-A943-9D5B3D90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0417-9C0A-49F1-86DC-0BB5E5FA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7F3-094A-44B6-B1DD-2EDB4E54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8974-F3BB-4A4C-A155-00A189DC370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c5b5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633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47D2-0518-432A-B4DF-B2291D55C9B7}" type="slidenum">
              <a:rPr b="0" lang="zh-CN" sz="1400" spc="-1" strike="noStrike">
                <a:solidFill>
                  <a:srgbClr val="6633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42840" y="26665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c5b5"/>
                </a:solidFill>
                <a:latin typeface="Verdana"/>
                <a:ea typeface="宋体"/>
              </a:rPr>
              <a:t>摩天大楼商务</a:t>
            </a:r>
            <a:r>
              <a:rPr b="0" lang="zh-CN" sz="4000" spc="-1" strike="noStrike">
                <a:solidFill>
                  <a:srgbClr val="d7c5b5"/>
                </a:solidFill>
                <a:latin typeface="Verdana"/>
                <a:ea typeface="宋体"/>
              </a:rPr>
              <a:t>PPT</a:t>
            </a:r>
            <a:r>
              <a:rPr b="0" lang="en-US" sz="4000" spc="-1" strike="noStrike">
                <a:solidFill>
                  <a:srgbClr val="d7c5b5"/>
                </a:solidFill>
                <a:latin typeface="Verdana"/>
                <a:ea typeface="宋体"/>
              </a:rPr>
              <a:t>模板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2840" y="42667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6784200" y="632448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021040" y="617220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2929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71584d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92929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23:58:01Z</dcterms:created>
  <dc:creator/>
  <dc:description/>
  <dc:language>en-US</dc:language>
  <cp:lastModifiedBy>秋叶</cp:lastModifiedBy>
  <dcterms:modified xsi:type="dcterms:W3CDTF">2015-01-09T03:46:0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011408322052</vt:lpwstr>
  </property>
</Properties>
</file>