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9EC-8253-4ECC-BE9F-6BC5E72A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A64-385E-4C6E-9E15-B588C392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27F-6B16-4DF7-804F-D1DCBA4D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C45C-5272-476A-BD77-842F5B71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CB41-3ECE-41AB-BC47-C4B629A7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95FA-4C6C-4937-A6D4-F5DC79D2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D480-6CF3-4922-9ABC-BE3CA072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CC3F-D088-4FC1-8AD2-412661B8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690D-4B55-4993-BF01-AB55CBEB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F0CE-05B3-48E1-A2AF-9F8D2323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9FEA-3B6B-48A0-BF7D-BFC761A9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9C6D-7AC1-491E-A507-A0AA1928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1C1A-F101-4EFC-BF7A-D68BC71D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52FE-A610-4935-A49A-CDD08041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0E5B-D06E-47B1-BF4C-B9068DC3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D6C8-5AD5-4481-9E07-79BD52D1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4534-19CA-469C-B4D6-CE04CA79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CC3F-FBD3-4EDC-8E37-CC990144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57B-46E2-4167-9497-640A0A53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829C-20E1-4045-9351-2471C949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5BB-A138-47ED-82CD-2E98E9B7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98B-D48A-479A-B7D9-362B6631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80DA-2EEB-4933-AEE1-2B79857A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3467-900C-489F-B0B6-CDDE983F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8398" r="0" b="13816"/>
          <a:stretch/>
        </p:blipFill>
        <p:spPr>
          <a:xfrm>
            <a:off x="0" y="32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359D-48BC-4ACB-AAC2-A6D64E191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3964-9DAC-4CED-8158-83B4C7F97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8398" r="-107" b="83754"/>
          <a:stretch/>
        </p:blipFill>
        <p:spPr>
          <a:xfrm>
            <a:off x="0" y="0"/>
            <a:ext cx="9153360" cy="14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977160" y="6292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6:26:38Z</dcterms:created>
  <dc:creator>Administrator</dc:creator>
  <dc:description/>
  <dc:language>en-US</dc:language>
  <cp:lastModifiedBy/>
  <dcterms:modified xsi:type="dcterms:W3CDTF">2015-01-08T12:41:0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