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3C5-CFCC-46B1-B610-22952A61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38D-9A7D-45C1-8442-471C6F0F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AFB-6603-4D7F-844D-2FB0DD72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C62-2CC2-45D3-B1F7-227A35EA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08D6-8715-4EA1-86EF-46323E1F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1F15-6685-4414-9EBB-3C8FED74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E534-501F-4623-90A7-E39B1EB3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2D6C-9C45-40D7-AF1C-C2C50E3F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0F57-A7CD-4F65-B1DE-C17B77D3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2CAD-44D1-497B-9D1F-673AB994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85AC-E22D-4FD4-8B61-969E492B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CD5-BD82-4380-AABF-19ED1C92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FF07-695A-4235-AE2C-24763251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A770-6E27-41CB-B1AF-A7E486AD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E690-74AF-423B-B71A-F9A0B927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22B9-9F1F-4982-9F6F-B426ECDE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9A55-12B1-4B11-9F77-C091E104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61C-74E8-43B3-BF72-F208FA2D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B81-87BB-446E-88B4-2F88D74D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779-727A-4F0A-90BD-7E2A0402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4A4-DA3B-44BC-B7FE-93C9DEEE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A65-83D7-4F68-AA7E-961D635E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D9C-D5CE-4612-83ED-634B9140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8F2-7557-497E-92C9-B9846BEE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A19B-3296-415E-BF3E-F039BFB44506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DF30-069D-432B-AC1A-65CDEDD7F0E4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b.chinabroadcast.cn/chinaabc/chapter17/chapter170201.htm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:\&#30683;&#19982;&#30462;&#65288;&#32456;&#31295;&#65289;\myd_qj.exe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34000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北师大  十二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453360"/>
            <a:ext cx="1476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26920" y="1009800"/>
            <a:ext cx="777564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楚人有鬻盾与矛者，誉之曰：“吾盾之坚，物</a:t>
            </a:r>
            <a:r>
              <a:rPr b="1" lang="zh-CN" sz="5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莫能陷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也。”</a:t>
            </a:r>
            <a:endParaRPr b="0" lang="en-US" sz="5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又誉其矛曰：“吾矛之利，于物</a:t>
            </a:r>
            <a:r>
              <a:rPr b="1" lang="zh-CN" sz="5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不陷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也。”</a:t>
            </a:r>
            <a:endParaRPr b="0" lang="en-US" sz="5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207972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79640" y="836640"/>
            <a:ext cx="5327640" cy="3294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414972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楚人有鬻盾与矛者，誉之曰：“吾盾之坚，物莫能陷也。”又誉其矛曰：“吾矛之利，于物无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不陷也。”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908000" y="836640"/>
            <a:ext cx="5472360" cy="3778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71640" y="4221000"/>
            <a:ext cx="75610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或曰：“以子之矛，陷子之盾，何如？”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588000" y="260280"/>
            <a:ext cx="2079720" cy="560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908000" y="836640"/>
            <a:ext cx="5472360" cy="3778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71640" y="4076640"/>
            <a:ext cx="75610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或曰：“以子之矛，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陷</a:t>
            </a:r>
            <a:r>
              <a:rPr b="1" lang="zh-CN" sz="5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子之盾，何如？”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588000" y="2602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24000" y="5877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陷——刺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58920" y="1916280"/>
            <a:ext cx="50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zh-CN" sz="9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其人弗能应也。 </a:t>
            </a:r>
            <a:endParaRPr b="0" lang="en-US" sz="9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16000" y="121284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148360" y="1125360"/>
            <a:ext cx="2508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3889080" cy="2671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11640" y="3573360"/>
            <a:ext cx="396072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11640" y="620640"/>
            <a:ext cx="38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  楚人有鬻盾与矛者，誉之曰：“吾盾之坚，物莫能陷也。”又誉其矛曰：“吾矛之利，于物无不陷也。”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3789360"/>
            <a:ext cx="28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或曰：“以子之矛，陷子之盾，何如？”其人弗能应也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8172360" y="573408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8603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2079720" cy="571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13560" y="833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  <a:ea typeface="楷体_GB2312"/>
              </a:rPr>
              <a:t>读读背背演演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1341360"/>
            <a:ext cx="813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观察书上插图中各个人物的表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情、动作，展开合理的想象演一演。表演要求： 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组合作，分配角色；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揣摩人物心理、动作、语言变化，进行合理、大胆的想象；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文言文、白话文的形式自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主选择。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3889080" cy="2671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211640" y="3573360"/>
            <a:ext cx="3960720" cy="2735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211640" y="620640"/>
            <a:ext cx="38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  楚人有鬻盾与矛者，誉之曰：“吾盾之坚，物莫能陷也。”又誉其矛曰：“吾矛之利，于物无不陷也。”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3789360"/>
            <a:ext cx="28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或曰：“以子之矛，陷子之盾，何如？”其人弗能应也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599840"/>
            <a:ext cx="8059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班长说：同学们已经基本上把学生的知识全部掌握了。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陈放说“这一期墙报上的文章都是同学们自己写的，只有一篇是李老师写的。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座山非常陡峭，从来就没有人爬上去过，爬上去的人从来就没有下来的。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916360" y="692280"/>
            <a:ext cx="3311280" cy="801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4360" y="1599840"/>
            <a:ext cx="8059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班长说：同学们已经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基本上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把学生的知识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全部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掌握了。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陈放说“这一期墙报上的文章都是同学们自己写的，只有一篇是李老师写的。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座山非常陡峭，从来就没有人爬上去过，爬上去的人从来就没有下来的。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16360" y="692280"/>
            <a:ext cx="33112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5717880" cy="4064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76720" y="5516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矛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5516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盾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360" y="1599840"/>
            <a:ext cx="8059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班长说：同学们已经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基本上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把学生的知识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全部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掌握了。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陈放说“这一期墙报上的文章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都是同学们自己写的，只有一篇是李老师写的。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座山非常陡峭，从来就没有人爬上去过，爬上去的人从来就没有下来的。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916360" y="692280"/>
            <a:ext cx="3311280" cy="801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4360" y="1599840"/>
            <a:ext cx="8059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班长说：同学们已经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基本上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把学生的知识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全部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掌握了。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陈放说“这一期墙报上的文章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都是同学们自己写的，只有一篇是李老师写的。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座山非常陡峭，从来就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没有人爬上去过，爬上去的人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来就没有下来的。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916360" y="692280"/>
            <a:ext cx="33112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451640" y="3573360"/>
            <a:ext cx="1392480" cy="2527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484360" y="98100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金钥匙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2205000"/>
            <a:ext cx="7236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准字音，读通句子；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结合译文，读懂全文；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揭示寓意，熟读成诵。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580000" y="907920"/>
            <a:ext cx="1258920" cy="1295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1628640"/>
            <a:ext cx="2664000" cy="3259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7640" y="501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韩 非 子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907920"/>
            <a:ext cx="45370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</a:t>
            </a:r>
            <a:r>
              <a:rPr b="1" lang="zh-CN" sz="2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《韩 非 子》是收录战国时期哲学家韩非及起弟子的作品集。其中记载了大量的脍炙人口的寓言故事，</a:t>
            </a:r>
            <a:r>
              <a:rPr b="1" lang="zh-CN" sz="2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最著名的有“自相矛盾”、“守株待兔”、“滥竽充数”、“老马识途”等等。这些生动的寓言故事，蕴含着深刻的哲理，</a:t>
            </a:r>
            <a:r>
              <a:rPr b="1" lang="zh-CN" sz="2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启迪了人们的智慧，具有较高的文学价值。</a:t>
            </a:r>
            <a:endParaRPr b="0" lang="en-US" sz="2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572000" y="39337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549360"/>
            <a:ext cx="8424720" cy="36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买椟还珠 </a:t>
            </a:r>
            <a:endParaRPr b="0" lang="en-US" sz="3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                           </a:t>
            </a:r>
            <a:r>
              <a:rPr b="1" lang="zh-CN" sz="25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《韩非子》 </a:t>
            </a:r>
            <a:br>
              <a:rPr sz="2500"/>
            </a:br>
            <a:r>
              <a:rPr b="1" lang="en-US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楚人有卖其珠於郑者，为木兰之柜，薰川桂椒，缀川珠玉，饰川玫瑰，缉川翡翠。郑人买其椟而还其珠。</a:t>
            </a:r>
            <a:endParaRPr b="0" lang="en-US" sz="25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此可谓善卖椟矣，未可谓善鬻珠也。 </a:t>
            </a:r>
            <a:endParaRPr b="0" lang="en-US" sz="25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译文</a:t>
            </a:r>
            <a:r>
              <a:rPr b="1" lang="en-US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br>
              <a:rPr sz="2500"/>
            </a:br>
            <a:r>
              <a:rPr b="1" lang="en-US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春秋时代，楚国有一个专门卖珠宝的商人，有一次他到郑国去兜售珠宝，为了使珠宝畅销，他用名贵的木兰做了一个盒子，用桂、椒薰烤，用珠玉镶嵌，用玫瑰石装饰，用翡翠衬托。结果一个郑国人买了他的这个盒子，</a:t>
            </a:r>
            <a:endParaRPr b="0" lang="en-US" sz="25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却把宝珠还给了他。 </a:t>
            </a:r>
            <a:br>
              <a:rPr sz="2500"/>
            </a:br>
            <a:r>
              <a:rPr b="1" lang="en-US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这个楚国人可以说是会卖盒子，但不能说是会卖宝</a:t>
            </a:r>
            <a:endParaRPr b="0" lang="en-US" sz="25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珠啊。</a:t>
            </a:r>
            <a:endParaRPr b="0" lang="en-US" sz="25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537372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这则寓言比喻有些人只注重事物外表，不看中其内涵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16000" y="1557360"/>
            <a:ext cx="763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1.</a:t>
            </a:r>
            <a:r>
              <a:rPr b="1" lang="zh-CN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向亲友复述《矛与盾》，聆听他们的体会。</a:t>
            </a:r>
            <a:endParaRPr b="0" lang="en-US" sz="45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2.</a:t>
            </a:r>
            <a:r>
              <a:rPr b="1" lang="zh-CN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用今天学习寓言的方法去学习《韩非子》中的《买椟还珠》，领悟其中蕴含的深刻寓意。</a:t>
            </a:r>
            <a:endParaRPr b="0" lang="en-US" sz="45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651800" y="3860640"/>
            <a:ext cx="1492200" cy="2708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435640" y="765000"/>
            <a:ext cx="666720" cy="484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59280" y="549360"/>
            <a:ext cx="273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作业超市</a:t>
            </a:r>
            <a:endParaRPr b="0" lang="en-US" sz="45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med">
    <p:wheel spokes="3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34000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北师大  十二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453360"/>
            <a:ext cx="1476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38840" y="630864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80008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80008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80008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80008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pic>
          <p:nvPicPr>
            <p:cNvPr id="16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916360" y="1628640"/>
            <a:ext cx="38145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鬻</a:t>
            </a:r>
            <a:endParaRPr b="0" lang="en-US" sz="25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69228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en-US" sz="9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yù</a:t>
            </a:r>
            <a:endParaRPr b="0" lang="en-US" sz="9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32000" y="544500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鬻——卖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771640" y="1484280"/>
            <a:ext cx="3384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弗</a:t>
            </a:r>
            <a:endParaRPr b="0" lang="en-US" sz="25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544500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弗——不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19640" y="692280"/>
            <a:ext cx="23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fú</a:t>
            </a:r>
            <a:endParaRPr b="0" lang="en-US" sz="9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64000" y="62064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12682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170028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1.</a:t>
            </a:r>
            <a:r>
              <a:rPr b="1" lang="zh-CN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古文译文相对照，用序号标注解词。</a:t>
            </a:r>
            <a:endParaRPr b="0" lang="en-US" sz="45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2.</a:t>
            </a:r>
            <a:r>
              <a:rPr b="1" lang="zh-CN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借助字典和工具书理解词义。    </a:t>
            </a:r>
            <a:endParaRPr b="0" lang="en-US" sz="45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3.</a:t>
            </a:r>
            <a:r>
              <a:rPr b="1" lang="zh-CN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图文对照，想象画面。</a:t>
            </a:r>
            <a:endParaRPr b="0" lang="en-US" sz="45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4.</a:t>
            </a:r>
            <a:r>
              <a:rPr b="1" lang="zh-CN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联系上下文，大胆猜读。</a:t>
            </a:r>
            <a:r>
              <a:rPr b="1" lang="en-US" sz="4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692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金钥匙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19640" y="620640"/>
            <a:ext cx="1117800" cy="1149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885080" y="4292640"/>
            <a:ext cx="1235160" cy="2241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26920" y="1009800"/>
            <a:ext cx="777564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楚人有鬻盾与矛者，誉之曰：“吾盾之坚，物莫能陷也。”</a:t>
            </a:r>
            <a:endParaRPr b="0" lang="en-US" sz="5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又誉其矛曰：“吾矛之利，于物无不陷也。”</a:t>
            </a:r>
            <a:endParaRPr b="0" lang="en-US" sz="5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2079720" cy="5601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26920" y="1009800"/>
            <a:ext cx="77756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楚人有鬻盾与矛者，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誉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之曰：“吾盾之坚，物莫能陷也。”</a:t>
            </a:r>
            <a:endParaRPr b="0" lang="en-US" sz="5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又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誉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其矛曰：“吾矛之利，于物无不陷也。”</a:t>
            </a:r>
            <a:endParaRPr b="0" lang="en-US" sz="5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03640" y="5445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誉——夸耀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26920" y="1009800"/>
            <a:ext cx="77756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楚人有鬻盾与矛者，誉之曰：“吾盾之坚，物莫能</a:t>
            </a:r>
            <a:r>
              <a:rPr b="1" lang="zh-CN" sz="5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陷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也。”</a:t>
            </a:r>
            <a:endParaRPr b="0" lang="en-US" sz="5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又誉其矛曰：“吾矛之利，于物无不</a:t>
            </a:r>
            <a:r>
              <a:rPr b="1" lang="zh-CN" sz="5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陷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也。”</a:t>
            </a:r>
            <a:endParaRPr b="0" lang="en-US" sz="5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03640" y="5445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陷——穿透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>fqun</dc:creator>
  <dc:description/>
  <dc:language>en-US</dc:language>
  <cp:lastModifiedBy>aoxin</cp:lastModifiedBy>
  <cp:lastPrinted>1899-12-30T00:00:00Z</cp:lastPrinted>
  <dcterms:modified xsi:type="dcterms:W3CDTF">2014-05-14T14:46:23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