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A08-032A-452F-96A4-5B855577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D87-CB6A-42C9-B11D-A187466A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9B1-D48C-47CF-9E5D-7F0C110A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C4D-F693-459E-AD8B-F94005D9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1A9D-7BB0-462F-B29F-F5ABEC86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749B-1B79-4E89-ABCE-29474476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9C83-B1E5-414B-80F6-2B57B860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BA97-3C0B-4F3F-8F12-92D2FA94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9E6B-CB53-435F-8A80-762CE6B9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D7B8-FC70-4131-A137-46D3E05E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D7B7-296A-4F0D-A252-29B7322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298-599E-4D73-94F4-CFF060E7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FD3B-C8C1-4B85-9917-613226FF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ECCE-6659-4942-B426-D44B98E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1B52-38AD-414B-BAA4-64062A39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52B1-D8D0-460B-A14A-B272BC0C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17D9-2977-469C-BF57-CD965645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A4B-3EAE-4D94-A905-30EF38DE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6D0-BA8A-4CBD-8794-0004720D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34B-9953-430B-82A0-D231AC2E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8A3-7E9D-47B9-93EB-9FF5BAC2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A46-4DFF-42B9-857C-151B7253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C84-872C-4570-B7F7-325ABD64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D19-E3A1-4521-A441-59ACE12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378D-67C8-4B07-8EE7-91DD0CCB0C0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09C2-4E18-4491-B8C3-DA9F1460675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5"/>
          <p:cNvSpPr/>
          <p:nvPr/>
        </p:nvSpPr>
        <p:spPr>
          <a:xfrm>
            <a:off x="-14400" y="4076640"/>
            <a:ext cx="9149040" cy="2062080"/>
          </a:xfrm>
          <a:custGeom>
            <a:avLst/>
            <a:gdLst/>
            <a:ahLst/>
            <a:rect l="l" t="t" r="r" b="b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6"/>
          <p:cNvSpPr/>
          <p:nvPr/>
        </p:nvSpPr>
        <p:spPr>
          <a:xfrm>
            <a:off x="-23760" y="4505400"/>
            <a:ext cx="8859960" cy="2343240"/>
          </a:xfrm>
          <a:custGeom>
            <a:avLst/>
            <a:gdLst/>
            <a:ahLst/>
            <a:rect l="l" t="t" r="r" b="b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68360" y="2427120"/>
            <a:ext cx="829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嫩绿简洁商务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738040" y="378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姓名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738040" y="410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31680" y="63817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1600560" y="630864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0:33:19Z</dcterms:created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微软中国</cp:lastModifiedBy>
  <dcterms:modified xsi:type="dcterms:W3CDTF">2015-01-09T03:42:22Z</dcterms:modified>
  <cp:revision>7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