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EB5E-9B9E-4866-B29E-48E2C8023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A6AB-E176-4103-BCF5-9F4795D5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2ECA-0D09-4066-A58B-C870435F8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7491-C05D-49E3-B0B2-847820F08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0864-88CA-4D93-8842-D4CDD588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3825-947B-4B00-AE2C-E0B03F2BA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4846-614D-4CAD-8540-77C39178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E75E-9C8E-4516-9506-44EE643B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BFA1-4EB3-464D-801B-7067BC79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6776-033E-447C-87ED-8BA6C482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EB44-0FD7-4C70-9FA0-011828F3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6806-4DFE-4973-881A-0706B2BE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279E-CC96-458B-BBD5-76862B3EC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5"/>
          <p:cNvSpPr/>
          <p:nvPr/>
        </p:nvSpPr>
        <p:spPr>
          <a:xfrm>
            <a:off x="3240" y="3718080"/>
            <a:ext cx="9144000" cy="3143160"/>
          </a:xfrm>
          <a:prstGeom prst="rect">
            <a:avLst/>
          </a:prstGeom>
          <a:solidFill>
            <a:srgbClr val="33cc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6200" y="1843200"/>
            <a:ext cx="52344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33cccc"/>
                </a:solidFill>
                <a:latin typeface="Impact"/>
                <a:ea typeface="微软雅黑"/>
              </a:rPr>
              <a:t>DO </a:t>
            </a:r>
            <a:r>
              <a:rPr b="0" lang="zh-CN" sz="6000" spc="-1" strike="noStrike">
                <a:solidFill>
                  <a:srgbClr val="33cccc"/>
                </a:solidFill>
                <a:latin typeface="Impact"/>
                <a:ea typeface="微软雅黑"/>
              </a:rPr>
              <a:t>SOME</a:t>
            </a:r>
            <a:r>
              <a:rPr b="0" lang="zh-CN" sz="8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8720" y="3871800"/>
            <a:ext cx="46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Impact"/>
                <a:ea typeface="微软雅黑"/>
              </a:rPr>
              <a:t>REFRESH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948360" y="6243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5"/>
          <p:cNvSpPr/>
          <p:nvPr/>
        </p:nvSpPr>
        <p:spPr>
          <a:xfrm>
            <a:off x="3240" y="1074600"/>
            <a:ext cx="9144000" cy="5786640"/>
          </a:xfrm>
          <a:prstGeom prst="rect">
            <a:avLst/>
          </a:prstGeom>
          <a:solidFill>
            <a:srgbClr val="33cc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ttangolo 5"/>
          <p:cNvSpPr/>
          <p:nvPr/>
        </p:nvSpPr>
        <p:spPr>
          <a:xfrm>
            <a:off x="733320" y="2003400"/>
            <a:ext cx="7572600" cy="3643200"/>
          </a:xfrm>
          <a:prstGeom prst="roundRect">
            <a:avLst>
              <a:gd name="adj" fmla="val 28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9"/>
          <p:cNvSpPr/>
          <p:nvPr/>
        </p:nvSpPr>
        <p:spPr>
          <a:xfrm>
            <a:off x="471240" y="1249200"/>
            <a:ext cx="462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Impact"/>
              </a:rPr>
              <a:t>WHA IS REFRES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101240" y="2435400"/>
            <a:ext cx="2061360" cy="2239560"/>
            <a:chOff x="1101240" y="2435400"/>
            <a:chExt cx="2061360" cy="2239560"/>
          </a:xfrm>
        </p:grpSpPr>
        <p:sp>
          <p:nvSpPr>
            <p:cNvPr id="49" name="Rettangolo 7"/>
            <p:cNvSpPr/>
            <p:nvPr/>
          </p:nvSpPr>
          <p:spPr>
            <a:xfrm>
              <a:off x="1101240" y="2876040"/>
              <a:ext cx="206136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1. ADJ-GRADED </a:t>
              </a: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不可思议的；难以置信的；极好的；非常棒的 </a:t>
              </a: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If you say that something is unbelievable, you are emphasizing that it is very good, impressive, intense, or extrem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矩形 18"/>
            <p:cNvSpPr/>
            <p:nvPr/>
          </p:nvSpPr>
          <p:spPr>
            <a:xfrm>
              <a:off x="1303200" y="24354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ccff"/>
                  </a:solidFill>
                  <a:latin typeface="Articulate"/>
                </a:rPr>
                <a:t>unbeliev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525480" y="2435400"/>
            <a:ext cx="2061360" cy="1813320"/>
            <a:chOff x="3525480" y="2435400"/>
            <a:chExt cx="2061360" cy="1813320"/>
          </a:xfrm>
        </p:grpSpPr>
        <p:sp>
          <p:nvSpPr>
            <p:cNvPr id="52" name="Rettangolo 7"/>
            <p:cNvSpPr/>
            <p:nvPr/>
          </p:nvSpPr>
          <p:spPr>
            <a:xfrm>
              <a:off x="3525480" y="2876040"/>
              <a:ext cx="206136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2. ADJ </a:t>
              </a: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极其糟糕的；令人震惊的；令人无法相信的 </a:t>
              </a: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You can use unbelievable to emphasize that you think something is very bad or shocking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45"/>
            <p:cNvSpPr/>
            <p:nvPr/>
          </p:nvSpPr>
          <p:spPr>
            <a:xfrm>
              <a:off x="3727440" y="24354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ff"/>
                  </a:solidFill>
                  <a:latin typeface="Articulate"/>
                </a:rPr>
                <a:t>unbeliev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947920" y="2435400"/>
            <a:ext cx="2061360" cy="1813320"/>
            <a:chOff x="5947920" y="2435400"/>
            <a:chExt cx="2061360" cy="1813320"/>
          </a:xfrm>
        </p:grpSpPr>
        <p:sp>
          <p:nvSpPr>
            <p:cNvPr id="55" name="Rettangolo 7"/>
            <p:cNvSpPr/>
            <p:nvPr/>
          </p:nvSpPr>
          <p:spPr>
            <a:xfrm>
              <a:off x="5947920" y="2876040"/>
              <a:ext cx="206136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3. ADJ </a:t>
              </a: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不可信的；不像真实的 </a:t>
              </a: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If an idea or statement is unbelievable, it seems so unlikely to be true that you cannot believe it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矩形 48"/>
            <p:cNvSpPr/>
            <p:nvPr/>
          </p:nvSpPr>
          <p:spPr>
            <a:xfrm>
              <a:off x="6149880" y="24354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ff"/>
                  </a:solidFill>
                  <a:latin typeface="Articulate"/>
                </a:rPr>
                <a:t>unbeliev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矩形 52"/>
          <p:cNvSpPr/>
          <p:nvPr/>
        </p:nvSpPr>
        <p:spPr>
          <a:xfrm>
            <a:off x="6718320" y="5877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hiller"/>
              </a:rPr>
              <a:t>To D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50"/>
          <p:cNvSpPr/>
          <p:nvPr/>
        </p:nvSpPr>
        <p:spPr>
          <a:xfrm flipH="1">
            <a:off x="3249720" y="2955960"/>
            <a:ext cx="1440" cy="2000160"/>
          </a:xfrm>
          <a:prstGeom prst="line">
            <a:avLst/>
          </a:prstGeom>
          <a:ln w="9360">
            <a:solidFill>
              <a:srgbClr val="3f3f3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50"/>
          <p:cNvSpPr/>
          <p:nvPr/>
        </p:nvSpPr>
        <p:spPr>
          <a:xfrm>
            <a:off x="5597640" y="2955960"/>
            <a:ext cx="0" cy="2000160"/>
          </a:xfrm>
          <a:prstGeom prst="line">
            <a:avLst/>
          </a:prstGeom>
          <a:ln w="9360">
            <a:solidFill>
              <a:srgbClr val="3f3f3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5"/>
          <p:cNvSpPr/>
          <p:nvPr/>
        </p:nvSpPr>
        <p:spPr>
          <a:xfrm>
            <a:off x="3240" y="5481720"/>
            <a:ext cx="9144000" cy="1368360"/>
          </a:xfrm>
          <a:prstGeom prst="rect">
            <a:avLst/>
          </a:prstGeom>
          <a:solidFill>
            <a:srgbClr val="33cc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96360" y="5877000"/>
            <a:ext cx="914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英英释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909720"/>
            <a:ext cx="3816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  <a:ea typeface="Impact"/>
              </a:rPr>
              <a:t>Ad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  <a:ea typeface="Impact"/>
              </a:rPr>
              <a:t>1. beyond belief or understanding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  <a:ea typeface="Impact"/>
              </a:rPr>
              <a:t>"at incredible spee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  <a:ea typeface="Impact"/>
              </a:rPr>
              <a:t>"the book's plot is simply incredibl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  <a:ea typeface="Impact"/>
              </a:rPr>
              <a:t>synonym</a:t>
            </a: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Impact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Impact"/>
                <a:ea typeface="Impact"/>
              </a:rPr>
              <a:t>incred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1450800"/>
            <a:ext cx="3435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  <a:ea typeface="Impact"/>
              </a:rPr>
              <a:t>2. having a probability to low to inspire bel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  <a:ea typeface="Impact"/>
              </a:rPr>
              <a:t>synonym</a:t>
            </a: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Impact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Impact"/>
                <a:ea typeface="Impact"/>
              </a:rPr>
              <a:t>improbable</a:t>
            </a: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Impact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Impact"/>
                <a:ea typeface="Impact"/>
              </a:rPr>
              <a:t>unconvincing</a:t>
            </a: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Impact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Impact"/>
                <a:ea typeface="Impact"/>
              </a:rPr>
              <a:t>unlik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50"/>
          <p:cNvSpPr/>
          <p:nvPr/>
        </p:nvSpPr>
        <p:spPr>
          <a:xfrm>
            <a:off x="4633920" y="1054080"/>
            <a:ext cx="0" cy="3672000"/>
          </a:xfrm>
          <a:prstGeom prst="line">
            <a:avLst/>
          </a:prstGeom>
          <a:ln w="9360">
            <a:solidFill>
              <a:srgbClr val="3f3f3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2036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5"/>
          <p:cNvSpPr/>
          <p:nvPr/>
        </p:nvSpPr>
        <p:spPr>
          <a:xfrm>
            <a:off x="3240" y="5481720"/>
            <a:ext cx="9144000" cy="1368360"/>
          </a:xfrm>
          <a:prstGeom prst="rect">
            <a:avLst/>
          </a:prstGeom>
          <a:solidFill>
            <a:srgbClr val="33cc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96360" y="5877000"/>
            <a:ext cx="914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双语例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909720"/>
            <a:ext cx="381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  <a:ea typeface="Impact"/>
              </a:rPr>
              <a:t>1. Tom was driving his sports car at an unbelievable high spe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Impact"/>
              </a:rPr>
              <a:t>汤姆正在以令人难以相信的高速驾驶着自己的跑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  <a:ea typeface="Impact"/>
              </a:rPr>
              <a:t>2. They work with an unbelievable spe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Impact"/>
              </a:rPr>
              <a:t>他们以令人难以置信的速度工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76720" y="909720"/>
            <a:ext cx="3434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  <a:ea typeface="Impact"/>
              </a:rPr>
              <a:t>3. That story is unbelieva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Impact"/>
              </a:rPr>
              <a:t>那故事不可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  <a:ea typeface="Impact"/>
              </a:rPr>
              <a:t>4. Even the mass movement has degenerated to an unbelievable extent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Impact"/>
              </a:rPr>
              <a:t>便是群众运动也堕落到叫人难以相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接连接符 50"/>
          <p:cNvSpPr/>
          <p:nvPr/>
        </p:nvSpPr>
        <p:spPr>
          <a:xfrm>
            <a:off x="4633920" y="1054080"/>
            <a:ext cx="0" cy="3672000"/>
          </a:xfrm>
          <a:prstGeom prst="line">
            <a:avLst/>
          </a:prstGeom>
          <a:ln w="9360">
            <a:solidFill>
              <a:srgbClr val="3f3f3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5"/>
          <p:cNvSpPr/>
          <p:nvPr/>
        </p:nvSpPr>
        <p:spPr>
          <a:xfrm>
            <a:off x="0" y="1701720"/>
            <a:ext cx="9144000" cy="3143160"/>
          </a:xfrm>
          <a:prstGeom prst="rect">
            <a:avLst/>
          </a:prstGeom>
          <a:solidFill>
            <a:srgbClr val="33cc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Impact"/>
                <a:ea typeface="宋体"/>
              </a:rPr>
              <a:t>Thanks for listen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344960" y="580536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04:13:37Z</dcterms:created>
  <dc:creator>yellownancy</dc:creator>
  <dc:description/>
  <dc:language>en-US</dc:language>
  <cp:lastModifiedBy/>
  <dcterms:modified xsi:type="dcterms:W3CDTF">2015-01-09T03:32:5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