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1.jpeg" ContentType="image/jpeg"/>
  <Override PartName="/ppt/media/image7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19F-4C54-4F8C-BE18-D5F3A66C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3BEA-1F89-4044-8985-5DAC6107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4DA1-566D-494F-8CAA-2052B23F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10B5-0B67-4604-A91B-38AE0B59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EDA2-74D6-42DD-9AB4-5089BA305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ECDB-EB9E-4839-83F8-806D8C02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4BC5-FC5E-473A-84F8-324956B0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B96-9B20-4CF2-AED0-E44131F8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4B62-5357-4A53-870C-7F8EE6E32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7580-F7ED-4690-812B-41043ABF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33C8-CC72-4C20-9F7F-F8C8D40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C3BA-C6AC-4CC5-ABDE-1C43BEEEB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5850-8432-4F15-91C9-4037EF1E7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Figura2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nivercidade.edu/html/em_foco/foco.htm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9"/>
          <p:cNvSpPr/>
          <p:nvPr/>
        </p:nvSpPr>
        <p:spPr>
          <a:xfrm>
            <a:off x="582480" y="5157720"/>
            <a:ext cx="799308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rebuchet MS"/>
              </a:rPr>
              <a:t>Recrutamento e Seleção de Pesso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2"/>
          <p:cNvSpPr/>
          <p:nvPr/>
        </p:nvSpPr>
        <p:spPr>
          <a:xfrm>
            <a:off x="3043800" y="6356520"/>
            <a:ext cx="32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rebuchet MS"/>
              </a:rPr>
              <a:t>Elizandra Laikowski – Maio/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644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9"/>
          <p:cNvSpPr/>
          <p:nvPr/>
        </p:nvSpPr>
        <p:spPr>
          <a:xfrm>
            <a:off x="762120" y="48769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169360" y="3573360"/>
            <a:ext cx="473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Muito Obrigada pela Atençã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pt-B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pt-BR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pt-BR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pt-BR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pt-B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1111320" y="3141360"/>
            <a:ext cx="7010280" cy="762120"/>
            <a:chOff x="1111320" y="3141360"/>
            <a:chExt cx="7010280" cy="762120"/>
          </a:xfrm>
        </p:grpSpPr>
        <p:sp>
          <p:nvSpPr>
            <p:cNvPr id="50" name="Line 3"/>
            <p:cNvSpPr/>
            <p:nvPr/>
          </p:nvSpPr>
          <p:spPr>
            <a:xfrm flipH="1" flipV="1">
              <a:off x="4768920" y="3217680"/>
              <a:ext cx="990720" cy="53316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4"/>
            <p:cNvSpPr/>
            <p:nvPr/>
          </p:nvSpPr>
          <p:spPr>
            <a:xfrm flipV="1">
              <a:off x="3321000" y="3141360"/>
              <a:ext cx="1447920" cy="76212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5"/>
            <p:cNvSpPr/>
            <p:nvPr/>
          </p:nvSpPr>
          <p:spPr>
            <a:xfrm flipV="1">
              <a:off x="1111320" y="3141360"/>
              <a:ext cx="3581280" cy="609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4692600" y="3141720"/>
              <a:ext cx="3429000" cy="60948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2340000" y="1844640"/>
            <a:ext cx="4392360" cy="1323720"/>
            <a:chOff x="2340000" y="1844640"/>
            <a:chExt cx="4392360" cy="1323720"/>
          </a:xfrm>
        </p:grpSpPr>
        <p:pic>
          <p:nvPicPr>
            <p:cNvPr id="55" name="Picture 8" descr="fundo_03"/>
            <p:cNvPicPr/>
            <p:nvPr/>
          </p:nvPicPr>
          <p:blipFill>
            <a:blip r:embed="rId1"/>
            <a:stretch/>
          </p:blipFill>
          <p:spPr>
            <a:xfrm>
              <a:off x="2340000" y="1844640"/>
              <a:ext cx="4392360" cy="132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Rectangle 9"/>
            <p:cNvSpPr/>
            <p:nvPr/>
          </p:nvSpPr>
          <p:spPr>
            <a:xfrm>
              <a:off x="2679480" y="1938960"/>
              <a:ext cx="3962880" cy="11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Trebuchet MS"/>
                </a:rPr>
                <a:t>DEMANDA DE PESSO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4538520" y="3703680"/>
            <a:ext cx="2133720" cy="866880"/>
            <a:chOff x="4538520" y="3703680"/>
            <a:chExt cx="2133720" cy="866880"/>
          </a:xfrm>
        </p:grpSpPr>
        <p:pic>
          <p:nvPicPr>
            <p:cNvPr id="58" name="Picture 11" descr="fundo_07"/>
            <p:cNvPicPr/>
            <p:nvPr/>
          </p:nvPicPr>
          <p:blipFill>
            <a:blip r:embed="rId2"/>
            <a:stretch/>
          </p:blipFill>
          <p:spPr>
            <a:xfrm>
              <a:off x="4538520" y="3703680"/>
              <a:ext cx="2133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12"/>
            <p:cNvSpPr/>
            <p:nvPr/>
          </p:nvSpPr>
          <p:spPr>
            <a:xfrm>
              <a:off x="4614840" y="3808440"/>
              <a:ext cx="1969920" cy="685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3d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rebuchet MS"/>
                </a:rPr>
                <a:t>ESCOLH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600960" y="3695760"/>
            <a:ext cx="2286000" cy="866880"/>
            <a:chOff x="6600960" y="3695760"/>
            <a:chExt cx="2286000" cy="866880"/>
          </a:xfrm>
        </p:grpSpPr>
        <p:pic>
          <p:nvPicPr>
            <p:cNvPr id="61" name="Picture 14" descr="fundo_07"/>
            <p:cNvPicPr/>
            <p:nvPr/>
          </p:nvPicPr>
          <p:blipFill>
            <a:blip r:embed="rId3"/>
            <a:stretch/>
          </p:blipFill>
          <p:spPr>
            <a:xfrm>
              <a:off x="6600960" y="3695760"/>
              <a:ext cx="2286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Rectangle 15"/>
            <p:cNvSpPr/>
            <p:nvPr/>
          </p:nvSpPr>
          <p:spPr>
            <a:xfrm>
              <a:off x="6981840" y="3848040"/>
              <a:ext cx="1600200" cy="609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3d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rebuchet MS"/>
                </a:rPr>
                <a:t>INTEGR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266760" y="3708360"/>
            <a:ext cx="2133720" cy="866880"/>
            <a:chOff x="266760" y="3708360"/>
            <a:chExt cx="2133720" cy="866880"/>
          </a:xfrm>
        </p:grpSpPr>
        <p:pic>
          <p:nvPicPr>
            <p:cNvPr id="64" name="Picture 17" descr="fundo_07"/>
            <p:cNvPicPr/>
            <p:nvPr/>
          </p:nvPicPr>
          <p:blipFill>
            <a:blip r:embed="rId4"/>
            <a:stretch/>
          </p:blipFill>
          <p:spPr>
            <a:xfrm>
              <a:off x="266760" y="3708360"/>
              <a:ext cx="213372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Rectangle 18"/>
            <p:cNvSpPr/>
            <p:nvPr/>
          </p:nvSpPr>
          <p:spPr>
            <a:xfrm>
              <a:off x="419040" y="3917880"/>
              <a:ext cx="1828800" cy="457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3d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rebuchet MS"/>
                </a:rPr>
                <a:t>ATR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2395440" y="3708360"/>
            <a:ext cx="2209680" cy="866880"/>
            <a:chOff x="2395440" y="3708360"/>
            <a:chExt cx="2209680" cy="866880"/>
          </a:xfrm>
        </p:grpSpPr>
        <p:pic>
          <p:nvPicPr>
            <p:cNvPr id="67" name="Picture 20" descr="fundo_07"/>
            <p:cNvPicPr/>
            <p:nvPr/>
          </p:nvPicPr>
          <p:blipFill>
            <a:blip r:embed="rId5"/>
            <a:stretch/>
          </p:blipFill>
          <p:spPr>
            <a:xfrm>
              <a:off x="2395440" y="3708360"/>
              <a:ext cx="220968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Rectangle 21"/>
            <p:cNvSpPr/>
            <p:nvPr/>
          </p:nvSpPr>
          <p:spPr>
            <a:xfrm>
              <a:off x="2711160" y="3813120"/>
              <a:ext cx="1499040" cy="6858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5c3d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Trebuchet MS"/>
                </a:rPr>
                <a:t>FILTR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7"/>
          <p:cNvSpPr/>
          <p:nvPr/>
        </p:nvSpPr>
        <p:spPr>
          <a:xfrm>
            <a:off x="1692360" y="5229360"/>
            <a:ext cx="597672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 captação de pessoas deve atender as necess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sentes e futuras da organiz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"/>
          <p:cNvSpPr/>
          <p:nvPr/>
        </p:nvSpPr>
        <p:spPr>
          <a:xfrm>
            <a:off x="641520" y="4797360"/>
            <a:ext cx="77724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3"/>
          <p:cNvSpPr/>
          <p:nvPr/>
        </p:nvSpPr>
        <p:spPr>
          <a:xfrm>
            <a:off x="4356000" y="4797360"/>
            <a:ext cx="64764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4" descr="imagesCAT1A978"/>
          <p:cNvPicPr/>
          <p:nvPr/>
        </p:nvPicPr>
        <p:blipFill>
          <a:blip r:embed="rId6"/>
          <a:stretch/>
        </p:blipFill>
        <p:spPr>
          <a:xfrm>
            <a:off x="250920" y="1197000"/>
            <a:ext cx="2160360" cy="14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3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4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5"/>
          <p:cNvSpPr/>
          <p:nvPr/>
        </p:nvSpPr>
        <p:spPr>
          <a:xfrm>
            <a:off x="3429000" y="33526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6"/>
          <p:cNvSpPr/>
          <p:nvPr/>
        </p:nvSpPr>
        <p:spPr>
          <a:xfrm>
            <a:off x="2971800" y="3962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7"/>
          <p:cNvSpPr/>
          <p:nvPr/>
        </p:nvSpPr>
        <p:spPr>
          <a:xfrm>
            <a:off x="2533680" y="41911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8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9"/>
          <p:cNvSpPr/>
          <p:nvPr/>
        </p:nvSpPr>
        <p:spPr>
          <a:xfrm>
            <a:off x="2286000" y="4572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Z:\Rabaglio\imagens\novas\slide12-pensando.png"/>
          <p:cNvPicPr/>
          <p:nvPr/>
        </p:nvPicPr>
        <p:blipFill>
          <a:blip r:embed="rId1"/>
          <a:srcRect l="0" t="19792" r="0" b="0"/>
          <a:stretch/>
        </p:blipFill>
        <p:spPr>
          <a:xfrm>
            <a:off x="0" y="1357200"/>
            <a:ext cx="9144000" cy="55008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12"/>
          <p:cNvSpPr/>
          <p:nvPr/>
        </p:nvSpPr>
        <p:spPr>
          <a:xfrm>
            <a:off x="1220040" y="1557360"/>
            <a:ext cx="657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luxo do Processo de Captação de Pesso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3"/>
          <p:cNvSpPr/>
          <p:nvPr/>
        </p:nvSpPr>
        <p:spPr>
          <a:xfrm>
            <a:off x="684360" y="227664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5"/>
          <p:cNvSpPr/>
          <p:nvPr/>
        </p:nvSpPr>
        <p:spPr>
          <a:xfrm>
            <a:off x="684360" y="328464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1151280" y="3260880"/>
            <a:ext cx="51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ntificação das fontes de recru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7"/>
          <p:cNvSpPr/>
          <p:nvPr/>
        </p:nvSpPr>
        <p:spPr>
          <a:xfrm>
            <a:off x="684360" y="278136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>
            <a:off x="1138680" y="2757600"/>
            <a:ext cx="48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talhadamento do perfil do ocu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9"/>
          <p:cNvSpPr/>
          <p:nvPr/>
        </p:nvSpPr>
        <p:spPr>
          <a:xfrm>
            <a:off x="684360" y="378936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1131120" y="3765600"/>
            <a:ext cx="490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ecução do processo de recruta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21"/>
          <p:cNvSpPr/>
          <p:nvPr/>
        </p:nvSpPr>
        <p:spPr>
          <a:xfrm>
            <a:off x="684360" y="428940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1137960" y="422748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Recepção e atendimento aos candi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23"/>
          <p:cNvSpPr/>
          <p:nvPr/>
        </p:nvSpPr>
        <p:spPr>
          <a:xfrm>
            <a:off x="684360" y="479736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1228320" y="4773600"/>
            <a:ext cx="117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ri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25"/>
          <p:cNvSpPr/>
          <p:nvPr/>
        </p:nvSpPr>
        <p:spPr>
          <a:xfrm>
            <a:off x="684360" y="530064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6"/>
          <p:cNvSpPr/>
          <p:nvPr/>
        </p:nvSpPr>
        <p:spPr>
          <a:xfrm>
            <a:off x="1156680" y="5276880"/>
            <a:ext cx="41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xecução do processo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27"/>
          <p:cNvSpPr/>
          <p:nvPr/>
        </p:nvSpPr>
        <p:spPr>
          <a:xfrm>
            <a:off x="684360" y="580536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183320" y="5769000"/>
            <a:ext cx="244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ecisão de sel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29"/>
          <p:cNvSpPr/>
          <p:nvPr/>
        </p:nvSpPr>
        <p:spPr>
          <a:xfrm>
            <a:off x="684360" y="6308640"/>
            <a:ext cx="502920" cy="360360"/>
          </a:xfrm>
          <a:prstGeom prst="pi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0"/>
          <p:cNvSpPr/>
          <p:nvPr/>
        </p:nvSpPr>
        <p:spPr>
          <a:xfrm>
            <a:off x="1158120" y="6259680"/>
            <a:ext cx="287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dmissão / Integr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2"/>
          <p:cNvSpPr/>
          <p:nvPr/>
        </p:nvSpPr>
        <p:spPr>
          <a:xfrm>
            <a:off x="1126080" y="2252520"/>
            <a:ext cx="526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dentificação das necessidades de pesso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8" descr="http://www.opendreams.com.br/imagens/gestao_sistemica.jpg"/>
          <p:cNvPicPr/>
          <p:nvPr/>
        </p:nvPicPr>
        <p:blipFill>
          <a:blip r:embed="rId1"/>
          <a:stretch/>
        </p:blipFill>
        <p:spPr>
          <a:xfrm>
            <a:off x="3132000" y="3068640"/>
            <a:ext cx="3046680" cy="1955880"/>
          </a:xfrm>
          <a:prstGeom prst="rect">
            <a:avLst/>
          </a:prstGeom>
          <a:ln w="0">
            <a:noFill/>
          </a:ln>
        </p:spPr>
      </p:pic>
      <p:sp>
        <p:nvSpPr>
          <p:cNvPr id="103" name="Oval 9"/>
          <p:cNvSpPr/>
          <p:nvPr/>
        </p:nvSpPr>
        <p:spPr>
          <a:xfrm>
            <a:off x="1547640" y="1916280"/>
            <a:ext cx="2303640" cy="136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 a descri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"/>
          <p:cNvSpPr/>
          <p:nvPr/>
        </p:nvSpPr>
        <p:spPr>
          <a:xfrm>
            <a:off x="5364000" y="1908000"/>
            <a:ext cx="2303640" cy="136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-requisi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v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1"/>
          <p:cNvSpPr/>
          <p:nvPr/>
        </p:nvSpPr>
        <p:spPr>
          <a:xfrm>
            <a:off x="5508720" y="4724280"/>
            <a:ext cx="2303280" cy="1368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quisitos esper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la á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2"/>
          <p:cNvSpPr/>
          <p:nvPr/>
        </p:nvSpPr>
        <p:spPr>
          <a:xfrm>
            <a:off x="1547640" y="4724280"/>
            <a:ext cx="2303640" cy="13687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 a percep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perf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j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3"/>
          <p:cNvSpPr/>
          <p:nvPr/>
        </p:nvSpPr>
        <p:spPr>
          <a:xfrm>
            <a:off x="1547640" y="1916280"/>
            <a:ext cx="2303640" cy="136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 a descri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4"/>
          <p:cNvSpPr/>
          <p:nvPr/>
        </p:nvSpPr>
        <p:spPr>
          <a:xfrm>
            <a:off x="5364000" y="1908000"/>
            <a:ext cx="2303640" cy="136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-requisi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v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5"/>
          <p:cNvSpPr/>
          <p:nvPr/>
        </p:nvSpPr>
        <p:spPr>
          <a:xfrm>
            <a:off x="1547640" y="4724280"/>
            <a:ext cx="2303640" cy="13687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 a percep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qu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perf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j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6"/>
          <p:cNvSpPr/>
          <p:nvPr/>
        </p:nvSpPr>
        <p:spPr>
          <a:xfrm>
            <a:off x="1547640" y="1916280"/>
            <a:ext cx="2303640" cy="136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r a descri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7"/>
          <p:cNvSpPr/>
          <p:nvPr/>
        </p:nvSpPr>
        <p:spPr>
          <a:xfrm>
            <a:off x="5364000" y="1908000"/>
            <a:ext cx="2303640" cy="1368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-requisi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v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8"/>
          <p:cNvSpPr/>
          <p:nvPr/>
        </p:nvSpPr>
        <p:spPr>
          <a:xfrm>
            <a:off x="5508720" y="4724280"/>
            <a:ext cx="2303280" cy="136872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quisitos esperad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la áre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icit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9"/>
          <p:cNvSpPr/>
          <p:nvPr/>
        </p:nvSpPr>
        <p:spPr>
          <a:xfrm>
            <a:off x="1547640" y="4724280"/>
            <a:ext cx="2303640" cy="136872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cepção adequad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perfil desej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20"/>
          <p:cNvSpPr/>
          <p:nvPr/>
        </p:nvSpPr>
        <p:spPr>
          <a:xfrm>
            <a:off x="1547640" y="1916280"/>
            <a:ext cx="2303640" cy="13683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r a descriçã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car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1"/>
          <p:cNvSpPr/>
          <p:nvPr/>
        </p:nvSpPr>
        <p:spPr>
          <a:xfrm>
            <a:off x="5364000" y="1916280"/>
            <a:ext cx="2303640" cy="1368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hecer 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é-requisit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 vag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0812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Line 2"/>
          <p:cNvSpPr/>
          <p:nvPr/>
        </p:nvSpPr>
        <p:spPr>
          <a:xfrm>
            <a:off x="755640" y="3187800"/>
            <a:ext cx="77724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447920" y="55627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">
            <a:hlinkClick r:id="rId1"/>
          </p:cNvPr>
          <p:cNvSpPr/>
          <p:nvPr/>
        </p:nvSpPr>
        <p:spPr>
          <a:xfrm>
            <a:off x="3732120" y="3114720"/>
            <a:ext cx="167976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3"/>
          <p:cNvSpPr/>
          <p:nvPr/>
        </p:nvSpPr>
        <p:spPr>
          <a:xfrm>
            <a:off x="539640" y="2035080"/>
            <a:ext cx="8305920" cy="10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Recrutamento de Pessoal: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njunto de técnicas que visa atrair candidatos potencialmente qualificados e capazes de ocupar cargos na organização.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imagesCA8NBUOW"/>
          <p:cNvPicPr/>
          <p:nvPr/>
        </p:nvPicPr>
        <p:blipFill>
          <a:blip r:embed="rId2"/>
          <a:stretch/>
        </p:blipFill>
        <p:spPr>
          <a:xfrm>
            <a:off x="3635280" y="3259080"/>
            <a:ext cx="223200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Line 2"/>
          <p:cNvSpPr/>
          <p:nvPr/>
        </p:nvSpPr>
        <p:spPr>
          <a:xfrm>
            <a:off x="755640" y="5046840"/>
            <a:ext cx="7772400" cy="0"/>
          </a:xfrm>
          <a:prstGeom prst="line">
            <a:avLst/>
          </a:prstGeom>
          <a:ln w="69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93560" y="5219640"/>
            <a:ext cx="83059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Seleção de Pessoal: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cesso de escolher o melhor candidato dentre aqueles recrutados.</a:t>
            </a: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Trebuchet MS"/>
              </a:rPr>
              <a:t>“</a:t>
            </a:r>
            <a:r>
              <a:rPr b="1" lang="en-US" sz="2000" spc="-1" strike="noStrike" u="sng">
                <a:solidFill>
                  <a:srgbClr val="000066"/>
                </a:solidFill>
                <a:uFillTx/>
                <a:latin typeface="Trebuchet MS"/>
              </a:rPr>
              <a:t>A pessoa certa para o lugar cer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Imagem 2" descr="Apresentação ROV6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71920" y="428760"/>
            <a:ext cx="5214960" cy="60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858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ormas de Recrutamento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Recrutamento Inter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Recrutamento Externo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Recrutamento Misto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Fontes de Divulgação: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Murais Internos / intrane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Jorna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Universidade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Agências de emprego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- Instituições parceira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Oval 5"/>
          <p:cNvSpPr/>
          <p:nvPr/>
        </p:nvSpPr>
        <p:spPr>
          <a:xfrm>
            <a:off x="3657600" y="25146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6"/>
          <p:cNvSpPr/>
          <p:nvPr/>
        </p:nvSpPr>
        <p:spPr>
          <a:xfrm>
            <a:off x="3886200" y="26668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7"/>
          <p:cNvSpPr/>
          <p:nvPr/>
        </p:nvSpPr>
        <p:spPr>
          <a:xfrm>
            <a:off x="3809880" y="28954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8"/>
          <p:cNvSpPr/>
          <p:nvPr/>
        </p:nvSpPr>
        <p:spPr>
          <a:xfrm>
            <a:off x="3429000" y="33526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9"/>
          <p:cNvSpPr/>
          <p:nvPr/>
        </p:nvSpPr>
        <p:spPr>
          <a:xfrm>
            <a:off x="2971800" y="39625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"/>
          <p:cNvSpPr/>
          <p:nvPr/>
        </p:nvSpPr>
        <p:spPr>
          <a:xfrm>
            <a:off x="2533680" y="4191120"/>
            <a:ext cx="76320" cy="759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1"/>
          <p:cNvSpPr/>
          <p:nvPr/>
        </p:nvSpPr>
        <p:spPr>
          <a:xfrm>
            <a:off x="2743200" y="403848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2"/>
          <p:cNvSpPr/>
          <p:nvPr/>
        </p:nvSpPr>
        <p:spPr>
          <a:xfrm>
            <a:off x="2286000" y="4572000"/>
            <a:ext cx="76320" cy="76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Z:\Rabaglio\imagens\novas\slide55.png"/>
          <p:cNvPicPr/>
          <p:nvPr/>
        </p:nvPicPr>
        <p:blipFill>
          <a:blip r:embed="rId1"/>
          <a:srcRect l="0" t="23962" r="0" b="0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35"/>
          <p:cNvSpPr/>
          <p:nvPr/>
        </p:nvSpPr>
        <p:spPr>
          <a:xfrm>
            <a:off x="563400" y="1557360"/>
            <a:ext cx="32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rebuchet MS"/>
              </a:rPr>
              <a:t>Técnicas de Sel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6"/>
          <p:cNvSpPr/>
          <p:nvPr/>
        </p:nvSpPr>
        <p:spPr>
          <a:xfrm>
            <a:off x="539640" y="2205000"/>
            <a:ext cx="8280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Entrevista de Seleção (individual ou cole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rovas de Conhecimento ou de Capacidades (gerais ou específic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valiação Psic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nálise graf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Técnicas de Simul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inâmica de Gru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00812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Imagem 4" descr="Apresentação ROV3.jpg"/>
          <p:cNvPicPr/>
          <p:nvPr/>
        </p:nvPicPr>
        <p:blipFill>
          <a:blip r:embed="rId1"/>
          <a:stretch/>
        </p:blipFill>
        <p:spPr>
          <a:xfrm>
            <a:off x="468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528624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1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Reportagem</a:t>
            </a:r>
            <a:br>
              <a:rPr sz="1800"/>
            </a:b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onte: Você SA (11/02/2005)</a:t>
            </a:r>
            <a:br>
              <a:rPr sz="1800"/>
            </a:b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mpresas britânicas têm prejuízo por contratar de forma equivocada</a:t>
            </a:r>
            <a:br>
              <a:rPr sz="1800"/>
            </a:b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 relatório divulgado pela consultoria inglesa SHL, no ano passado, mostra que as companhias britânicas gastam 60 bilhões de reais/ano com processo de seleção ineficientes. E o pior, o recrutamento, em grande parte dos casos, resulta na escolha de profissionais que não têm o perfil para o cargo ou mostram desempenho pífio nos primeiros meses de trabalho. Estima-se que as companhias britânicas percam cinco mil reais para cada empregado recém contratado, que não corresponde a expectativa dos patrões. O cálculo desse valor leva em conta o número de horas que gerentes e supervisores levam para corrigir erros causados pelos novatos. A idéia é que esses profissionais, gerentes e supervisores, estariam deixando de render para cubrir “buracos” dos recém contra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Imagem 2" descr="Apresentação ROV.jpg"/>
          <p:cNvPicPr/>
          <p:nvPr/>
        </p:nvPicPr>
        <p:blipFill>
          <a:blip r:embed="rId1"/>
          <a:stretch/>
        </p:blipFill>
        <p:spPr>
          <a:xfrm>
            <a:off x="0" y="0"/>
            <a:ext cx="91407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15200" cy="38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 sucesso das organizações está diretamente ligado à inteligência que elas detêm:</a:t>
            </a:r>
            <a:br>
              <a:rPr sz="2800"/>
            </a:br>
            <a:br>
              <a:rPr sz="14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TALENTOS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tectar, atrair, reter e desenvolver talentos são funções altamente estratégicas de 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Gestão de Pessoa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140360" y="1484280"/>
            <a:ext cx="576000" cy="57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5:04Z</dcterms:created>
  <dc:creator>Preferred Customer</dc:creator>
  <dc:description/>
  <dc:language>en-US</dc:language>
  <cp:lastModifiedBy>Docente</cp:lastModifiedBy>
  <dcterms:modified xsi:type="dcterms:W3CDTF">2015-01-08T08:21:18Z</dcterms:modified>
  <cp:revision>2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