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152280"/>
            <a:ext cx="85201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152280"/>
            <a:ext cx="85201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85ADA63-9305-497F-99D4-80AD8E49D4B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60360" y="2949480"/>
            <a:ext cx="454824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66480" y="1723680"/>
            <a:ext cx="6100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8000" y="62434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4280" y="0"/>
            <a:ext cx="9144000" cy="6858000"/>
            <a:chOff x="44280" y="0"/>
            <a:chExt cx="9144000" cy="6858000"/>
          </a:xfrm>
        </p:grpSpPr>
        <p:sp>
          <p:nvSpPr>
            <p:cNvPr id="85" name="Rectangle 2"/>
            <p:cNvSpPr/>
            <p:nvPr/>
          </p:nvSpPr>
          <p:spPr>
            <a:xfrm>
              <a:off x="4428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50616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More templates, graphics and charts are available at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400" spc="-1" strike="noStrike">
                  <a:solidFill>
                    <a:srgbClr val="1c1c1c"/>
                  </a:solidFill>
                  <a:latin typeface="Arial"/>
                </a:rPr>
                <a:t>www.eeppt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50400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947880" y="5835600"/>
            <a:ext cx="6249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40505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Jennifer</cp:lastModifiedBy>
  <dcterms:modified xsi:type="dcterms:W3CDTF">2014-05-18T06:51:12Z</dcterms:modified>
  <cp:revision>7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