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ACF-120E-47BD-BC1E-697E212D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367-94CC-4A71-8F98-A1110C4D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A1A-FF8D-4FF4-9CDB-B7ACEFC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2AF-34D7-41F6-83F1-89881046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018-7ABF-435D-8049-19C5A9D0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23B-B356-4F5D-AFB1-5554EF4F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7CC-2481-4326-9E44-2F94096A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5A6-7873-4A61-8AE9-166EA8D3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4A2-85FD-4959-B69B-EE56124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897-59A1-47F3-88B7-F7367FB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53C-BB9B-45F1-AFBE-B9C6A6BC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9F9-5D34-46B2-9B19-FA18A28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6245-2E24-4ADB-8C30-BF4EA16F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597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欧式经典花纹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63920" y="6369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07:49Z</dcterms:created>
  <dc:creator/>
  <dc:description/>
  <dc:language>en-US</dc:language>
  <cp:lastModifiedBy>微软用户</cp:lastModifiedBy>
  <dcterms:modified xsi:type="dcterms:W3CDTF">2015-01-09T03:31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