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108D0F8-EA76-4AE1-AC9C-8620E53A13B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30240" y="0"/>
            <a:ext cx="917424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>
            <a:hlinkClick r:id="rId11"/>
          </p:cNvPr>
          <p:cNvSpPr/>
          <p:nvPr/>
        </p:nvSpPr>
        <p:spPr>
          <a:xfrm>
            <a:off x="2368080" y="385992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68360" y="525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欧洲艺术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79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80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ff8a1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4639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f0a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89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5f5f5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5f5f5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5f5f5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5f5f5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5f5f5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5f5f5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5f5f5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5f5f5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779640" y="2491920"/>
            <a:ext cx="489564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5f5f5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直接选择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2830320" cy="33130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477800" y="314172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72480" y="5013360"/>
            <a:ext cx="48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3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08T12:24:54Z</dcterms:modified>
  <cp:revision>2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