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8C27-02CC-4D48-816A-9A2BD65B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489E-DFD4-4F92-BE6D-87877A41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3990-01E6-4EE7-931A-4A3639E4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394D-9D39-4713-A87B-C074F9B5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BF3C-D235-4C5E-9CC8-CAE9C7B3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876D-7413-42CE-9DF4-94B94D99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F899-FF1D-47DC-B4D4-BD9D8ACE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35A7-F624-4D63-A60D-9A1A0FBC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BB9B-5B11-46B9-8CC3-AC40E2B0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761-10BF-4AB7-9D35-F462D136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2DF-A989-4AE6-87CB-5C1E1BE9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6847-05F3-4C3B-8E44-6C1C4F7E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CEA1-7CE4-4B48-875D-4AEED642D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7202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933800" y="1341360"/>
            <a:ext cx="3888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普罗米修斯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3" name=""/>
          <p:cNvSpPr/>
          <p:nvPr/>
        </p:nvSpPr>
        <p:spPr>
          <a:xfrm>
            <a:off x="6765840" y="6300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67200" y="134136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很久很久以前，地面上没有火，人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只好吃生的东西，在无边的黑暗中度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个又一个长夜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4680" y="3284640"/>
            <a:ext cx="539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从有了火，人类就开始用它烧熟食物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驱寒取暖，并用火来驱赶危害人类安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猛兽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87840" y="1125360"/>
            <a:ext cx="5301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神话中说，最初的人是和众神在平原上幸福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共同生活的。一段时间以后，宙斯决定将人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神分开。他把这任务交给了普罗米修斯，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将双方彻底分开。于是，普罗米修斯在祭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时候，将不好的部分涂上白油后献给宙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却将较好的部分藏在看上去不太诱人的内脏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给了人类。宙斯察觉了这一骗局，他报复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类，拿走了他们的火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59640" y="1484280"/>
            <a:ext cx="48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只要你向宙斯承认错误，归还火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一定请求他饶恕你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11920" y="299736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为人类造祸，有什么错？我可以忍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各种痛苦，但决不会承认错误，更不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归还火种！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20120" y="6165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67400" cy="6886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4272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101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16826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92400" y="1341360"/>
            <a:ext cx="4376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练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：用既……也……写一句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55880" y="3141720"/>
            <a:ext cx="49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：普罗米修斯在高加索山上，他看到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听到了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想到了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55520" y="4365720"/>
            <a:ext cx="496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：你还喜欢哪则神话故事，请写下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主要情节与大家分享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20120" y="6165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0"/>
            <a:ext cx="73454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普罗米修斯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　　是谁？让漫漫黑夜跳跃希望的火苗？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　　是谁？让蛮荒时代沐浴文明的曙光？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　　是谁？甘愿触犯天条也要救人类于水火？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　　是谁？身受酷刑却无怨无悔？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　　啊！巨人，是你给人类带来火种，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　　送来光和热，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　　送来人类新的纪元！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　　尽管上天和你蓄意为敌－－－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　　高山险峻、铁链加身，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　　烈日如火、暴雨如注．．．．．．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　　但沉重的铁链只能锁住你的躯体，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　　却怎能锁住那颗坦荡无私的心！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　　难道仅仅是物质的火种吗？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　　不，你给予我们的，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　　是声声不息的精神火种！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　　勇敢、坚强、博爱、无私，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　　这就是你－－－普罗米修斯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2:01:32Z</dcterms:created>
  <dc:creator>微软用户</dc:creator>
  <dc:description/>
  <dc:language>en-US</dc:language>
  <cp:lastModifiedBy>微软用户</cp:lastModifiedBy>
  <dcterms:modified xsi:type="dcterms:W3CDTF">2015-01-08T12:31:56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