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312-35B0-42A9-B96A-C3C59C6A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9F1-394D-4798-92BC-B488AB06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D70-0D9A-4524-AFCF-90E81CC4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725-779D-4DC8-87B3-A2D8300F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6661-75AC-4717-86AF-B30E123B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CC45-0AC6-414B-9916-9208D2C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73C-DA40-4BE6-974C-808F947D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2562-EC39-478C-92CF-83A5130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FE0B-9787-437C-A239-ADC5852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BE1-EF4A-4B19-B314-526A9B3D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CAA-89A7-46BE-AE70-E87F619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335-BDEC-43CD-9B62-895C051A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84E1-0A56-4244-9769-AAFB647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B696-7E8C-4395-BD6D-63A1C17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319-9D38-412D-9AA1-4235C274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AF2E-2B40-453C-AB70-2DB09DEC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8366-9E7F-41B9-B758-A71B7F34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152D-2394-4363-86AA-E30CA2A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1A1E-D329-42F1-952E-D2303CD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17B0-8711-4F97-8B27-28CD5E6C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22C2-3F8E-4538-B1E1-2C13CDC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A279-128B-4729-890B-AC6735C2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15D-2A53-42A2-A14C-857DC722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8CE8-92A2-4E76-BFC0-227F31E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71F8-63C6-4894-80DA-F71FFC83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9B18-AB50-411C-9450-B0CD9AD7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855C-D171-48D5-B512-C86AB0A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F439-D0AA-4994-AE96-D2C6A32E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649D-9D82-47E6-A739-352378FC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6617-0A14-44FC-8689-2B97B84D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46E-039E-459C-A512-262A1402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E4C-03D7-4ACB-A3F8-1453D0BC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15D-44B1-41A1-AD12-3333B60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5BA-D21C-439A-A74D-5FE5D5B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9C4-16EF-4145-B22D-691F301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267-B7E6-4F5E-B02E-F2BB018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8A93-2432-411B-BEAF-90AB44C3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00F-614A-4751-9FF9-C81D90519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3AEB-E94A-450F-A379-7226E9D9E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拼图商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672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54636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26360" y="1916280"/>
            <a:ext cx="203328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684360" y="3860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386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etails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16:49Z</dcterms:created>
  <dc:creator>Jack</dc:creator>
  <dc:description/>
  <dc:language>en-US</dc:language>
  <cp:lastModifiedBy>微软用户</cp:lastModifiedBy>
  <dcterms:modified xsi:type="dcterms:W3CDTF">2015-01-09T03:26:15Z</dcterms:modified>
  <cp:revision>3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