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D56-B84B-42B6-8D30-78DFCD99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692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7640" y="3992760"/>
            <a:ext cx="692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EF5-0EB9-4BB2-89F2-52599791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4360" y="162864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7640" y="399276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54360" y="399276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EC5-0FA9-4AD2-86C2-EFD4FFA5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222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48000" y="1628640"/>
            <a:ext cx="222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88000" y="1628640"/>
            <a:ext cx="222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7640" y="3992760"/>
            <a:ext cx="222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48000" y="3992760"/>
            <a:ext cx="222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88000" y="3992760"/>
            <a:ext cx="222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44D-ED61-4B79-9279-4B8D1A28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07640" y="1628640"/>
            <a:ext cx="6921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692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337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4360" y="1628640"/>
            <a:ext cx="337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08000" y="274320"/>
            <a:ext cx="691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54360" y="1628640"/>
            <a:ext cx="337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07640" y="399276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7640" y="1628640"/>
            <a:ext cx="6921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C0B-3471-4CB4-8CD3-B803CF37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337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4360" y="162864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54360" y="399276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54360" y="162864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07640" y="3992760"/>
            <a:ext cx="692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692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07640" y="3992760"/>
            <a:ext cx="692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4360" y="162864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07640" y="399276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54360" y="399276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222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48000" y="1628640"/>
            <a:ext cx="222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88000" y="1628640"/>
            <a:ext cx="222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07640" y="3992760"/>
            <a:ext cx="222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248000" y="3992760"/>
            <a:ext cx="222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88000" y="3992760"/>
            <a:ext cx="222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8F5B-3AAA-4667-9FFC-66A6A719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7640" y="1628640"/>
            <a:ext cx="6921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9FE7-8980-4B8C-A9CA-FBFB8844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692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CF37-177A-4EF3-9071-0C103920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337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54360" y="1628640"/>
            <a:ext cx="337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E309-0A5D-49D1-A866-24BFDFE2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317B-222F-47A0-BE6B-621FCD76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692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DCED-5BE9-48CA-A517-F4965761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08000" y="274320"/>
            <a:ext cx="691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D584-B0A9-4439-83B4-CC5E7FE3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54360" y="1628640"/>
            <a:ext cx="337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7640" y="399276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66DE-280C-492C-96B9-D50AFE40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337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54360" y="162864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54360" y="399276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930F-23A7-4341-8F0F-F2B596A5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54360" y="162864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7640" y="3992760"/>
            <a:ext cx="692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F78D-98F6-4686-9921-274EA552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692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7640" y="3992760"/>
            <a:ext cx="692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BF35-66C6-493D-AFE4-600B9BA6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54360" y="162864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7640" y="399276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454360" y="399276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E5F0-349B-4CD5-BF97-B4AFE313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222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48000" y="1628640"/>
            <a:ext cx="222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88000" y="1628640"/>
            <a:ext cx="222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7640" y="3992760"/>
            <a:ext cx="222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48000" y="3992760"/>
            <a:ext cx="222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88000" y="3992760"/>
            <a:ext cx="2228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F9B5-2187-4F1A-B2B5-5F587BD5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337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54360" y="1628640"/>
            <a:ext cx="337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5CFD-0DF4-4323-873D-2F02854C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06B-06BA-46A8-8091-D973FB79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8000" y="274320"/>
            <a:ext cx="691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8800-6E9B-4097-8AD4-F89B5DC7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4360" y="1628640"/>
            <a:ext cx="337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7640" y="399276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8A9-9080-45B2-B35D-1EDA7EA3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337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4360" y="162864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54360" y="399276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045D-7CD8-480F-9EA5-6CB8BDAA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54360" y="1628640"/>
            <a:ext cx="337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7640" y="3992760"/>
            <a:ext cx="692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DA8-09A5-44EE-A49E-ADB1A3CE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35280" y="1600200"/>
            <a:ext cx="69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be0e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53E5-2A9E-4368-8F7E-7E0ADFA8D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501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be0e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be0e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07640" y="1628640"/>
            <a:ext cx="692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7996-D7E4-4AD7-BC92-B0D1BCBC2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0" y="623520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0" y="501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692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05280" y="638172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6:36:07Z</dcterms:created>
  <dc:creator>keke</dc:creator>
  <dc:description/>
  <dc:language>en-US</dc:language>
  <cp:lastModifiedBy>keke</cp:lastModifiedBy>
  <dcterms:modified xsi:type="dcterms:W3CDTF">2015-01-09T03:24:16Z</dcterms:modified>
  <cp:revision>1</cp:revision>
  <dc:subject/>
  <dc:title>站长站素材 SC.china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