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8F6-BCA9-4769-AC89-9E88D10B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0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119-4BE1-4F3A-818F-5922AABF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3F3-633A-4F39-8AD5-5D58C36A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775-0676-490F-8782-656FB016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93EF-3F04-494D-BCA7-01C12ADFB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834A-0DE9-4FCC-BF17-C578FF22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EA37-5036-4154-A6A0-971E8037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776D-D69F-4642-BA61-80ED2162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80D1-7AA6-4381-8AA6-0E122567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34E4-C905-4F7F-8918-FC8D96C9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5121-3D34-4CF3-AD91-7DC2817B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AD31-F3F6-4097-BB30-4D7EA89F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A2BE-CE9A-4310-B07A-F2F0E479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0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5C3C-4373-40FE-9268-3AE276B4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0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9A0E-9276-4404-9BFB-8C04F7F8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2581-5F12-4088-BAD6-1FE0748F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6DDF-FE54-4584-B5D9-4F8BEDCF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0F88-94B6-46B3-A5BC-880B9CCB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8C4B-F40E-4BA0-A51F-2ABBD417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28E3-46CE-4BB4-BD2F-2171CDD2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79C1-96F5-493B-8B9D-D68075BF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2CF17-E857-483E-B362-D66AFC00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E9D-E68B-4194-8E04-2BB9AD7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ABF0-020C-4E77-B350-A7FD60FE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7680-B9D1-4B6E-81BD-924833E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0B709-AD1F-439E-9492-0B4023BC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0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3652-FD45-4B27-9688-648D228D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0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5D14B-B618-4B3F-BDA7-08BC9775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E80B-4967-440F-9DC5-D024A341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85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0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5AC26-600F-4FAB-853C-B358D308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94E-5D90-493E-9311-AD112416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383-E37C-481A-9A1E-3500E29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583-5EA2-4FC2-A64A-9F14F8D0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187-9E5C-40DF-B2CA-59248847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0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325-49CD-46F7-B327-788F1C4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85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0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BB4-03B2-4C02-8DDD-639D0449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6D35-81E6-4352-A4A2-75FCDE2FA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5905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B33E-2045-45B9-8D97-AAC76BE0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B184-D724-4F27-B8D9-35B4E477D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5905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跑向成功商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66880" y="4267080"/>
            <a:ext cx="2743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287280" y="33660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188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按一下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8AF-EA69-4C90-9256-EF225E4170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标题 8" descr=""/>
          <p:cNvPicPr/>
          <p:nvPr/>
        </p:nvPicPr>
        <p:blipFill>
          <a:blip r:embed="rId2"/>
          <a:stretch/>
        </p:blipFill>
        <p:spPr>
          <a:xfrm>
            <a:off x="76320" y="2590920"/>
            <a:ext cx="67309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728-838C-4EE5-83BB-5A11FF6DC4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6:13:55Z</dcterms:created>
  <dc:creator/>
  <dc:description/>
  <dc:language>en-US</dc:language>
  <cp:lastModifiedBy>MC SYSTEM</cp:lastModifiedBy>
  <dcterms:modified xsi:type="dcterms:W3CDTF">2015-01-09T03:27:00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