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2E8-B000-4F26-8710-41C0F21C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D16-F7D1-436C-BBAD-4ABD708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4C0-B5CB-4BEF-8A63-BA80FA8D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E8D-30DC-4C3C-9B43-80809482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701-8B48-4FFE-8368-41DDCB6F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FE8-5383-4E48-B6D2-6056764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F43-096E-4980-93F2-10E58024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29D-02A7-44C3-90A6-C555A7D8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41B-7BC0-4539-93B4-FFE9593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A47-5986-41E8-9290-1FC77E4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FDF-0E88-4EEA-ACB9-FA167AF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8CA-460A-4EAD-A414-0F6F581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62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0C7B-5788-4D7C-95C2-F0E6F448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39600" y="6626160"/>
            <a:ext cx="94464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0" y="494172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5050"/>
                </a:solidFill>
                <a:latin typeface="Arial"/>
              </a:rPr>
              <a:t>七彩画笔</a:t>
            </a:r>
            <a:r>
              <a:rPr b="1" lang="es-UY" sz="4000" spc="-1" strike="noStrike">
                <a:solidFill>
                  <a:srgbClr val="ff5050"/>
                </a:solidFill>
                <a:latin typeface="Arial"/>
              </a:rPr>
              <a:t>ppt</a:t>
            </a:r>
            <a:r>
              <a:rPr b="1" lang="es-UY" sz="4000" spc="-1" strike="noStrike">
                <a:solidFill>
                  <a:srgbClr val="ff505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5960" y="5641920"/>
            <a:ext cx="1028520" cy="122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1028880" cy="122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64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9T03:20:13Z</dcterms:modified>
  <cp:revision>78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