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103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1073160"/>
            <a:ext cx="9144000" cy="17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9AC4AFC-5D32-46E9-99CB-A5BC232E67C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使用规范说明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86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200480"/>
            <a:ext cx="9144000" cy="17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82720" y="2755800"/>
            <a:ext cx="7378560" cy="27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68360" y="208584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汽车介绍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88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89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98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83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479600" y="98100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04320" y="595008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4639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1c1c1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雨林木风</cp:lastModifiedBy>
  <dcterms:modified xsi:type="dcterms:W3CDTF">2015-01-08T12:22:51Z</dcterms:modified>
  <cp:revision>3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