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4B252-0FA1-4A60-A15D-7FA410446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5CBF-E6FF-4932-8662-4F421E762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EB86-B354-48BA-859C-889853534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6CBD-C1FD-4A39-83D8-B0FB3BBA8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842920" y="4042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162A1-8834-4121-B729-FE17B0BD0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84D75-DC66-4BA7-ACE0-83A38BCEF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F97D7-B193-4076-B9B6-DD3342A5D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C0A31-11AA-433D-A007-F4A604C5F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42920" y="4042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4DDFC-DD1B-4CFC-9AD0-0C8EDCC51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275A-44F3-44F1-84EE-4C2B2F260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D23E-DE73-417A-B89F-4AA014982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5851-343F-491C-9B76-7D983F1E2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000" spc="-1" strike="noStrike">
                <a:solidFill>
                  <a:srgbClr val="000000"/>
                </a:solidFill>
                <a:latin typeface="Times New Roman"/>
                <a:ea typeface="华文细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  <a:ea typeface="华文细黑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</a:t>
            </a:r>
            <a:fld id="{56EC2749-4E16-4ACA-9503-3A031ECE2881}" type="slidenum">
              <a:rPr b="1" i="1" lang="zh-CN" sz="1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rcRect l="5396" t="5349" r="74912" b="80615"/>
          <a:stretch/>
        </p:blipFill>
        <p:spPr>
          <a:xfrm>
            <a:off x="468360" y="219240"/>
            <a:ext cx="1808280" cy="96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7320" y="5208120"/>
            <a:ext cx="6512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7320" y="5208120"/>
            <a:ext cx="6512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七彩六一儿童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360" y="6526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7320" y="5208120"/>
            <a:ext cx="6512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05:46:42Z</dcterms:created>
  <dc:creator/>
  <dc:description/>
  <dc:language>en-US</dc:language>
  <cp:lastModifiedBy>User</cp:lastModifiedBy>
  <dcterms:modified xsi:type="dcterms:W3CDTF">2015-01-09T03:19:1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