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DEE-7E1B-43A8-AD7C-50BADFFE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28C-347F-494F-982A-D58F402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8BC-FA60-4F0E-96F7-1C75209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661-933D-429D-8013-ACCA08E6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B71-0F8A-4E8F-9A0E-C0EA6129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F80-922B-4D73-BA5C-06E903DA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52CB-D2CB-4FE8-A110-434C2DC6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E99-8E09-46C9-9D74-6F8672F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C4FC-8CFA-4461-850D-76E8DA9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000" y="11700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339-310E-40F2-B1CA-0002391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1F7A-9068-44A5-817D-690826A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516-8575-4EED-9B28-A3595CA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BA2-6420-4F87-AAFB-07DBA5A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F249-D8AF-4ACC-8725-F237D88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9DE4-E18F-4632-B682-8C24428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3A6C-D519-4F19-9F7A-0A9CDEC9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68C-06C8-4B44-9CC3-66ED625A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C07-59DE-4777-AAA0-5C134334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C5D-EBE8-48A8-9686-5605D1A9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C9C-8F60-4E1C-BB64-951CB7E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1700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299-C585-4AD4-B105-D176721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6E6-30B0-4AB7-8A37-30FF26E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CB0-664D-48A5-A061-CE4046C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58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19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87A-3934-49DF-8DAB-0590986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80360" cy="1295280"/>
          </a:xfrm>
          <a:prstGeom prst="rect">
            <a:avLst/>
          </a:prstGeom>
          <a:gradFill rotWithShape="0">
            <a:gsLst>
              <a:gs pos="0">
                <a:srgbClr val="19191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73440" cy="1297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 flipH="1">
            <a:off x="0" y="5734080"/>
            <a:ext cx="188136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B072-EF27-4425-8651-30EE0279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80360" cy="1295280"/>
          </a:xfrm>
          <a:prstGeom prst="rect">
            <a:avLst/>
          </a:prstGeom>
          <a:gradFill rotWithShape="0">
            <a:gsLst>
              <a:gs pos="0">
                <a:srgbClr val="19191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873440" cy="129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>
            <a:off x="0" y="5734080"/>
            <a:ext cx="1881360" cy="1125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45B-EDD5-4609-B5EA-3F2ACC019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797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56000" y="5661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128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1:45:54Z</dcterms:created>
  <dc:creator/>
  <dc:description/>
  <dc:language>en-US</dc:language>
  <cp:lastModifiedBy/>
  <dcterms:modified xsi:type="dcterms:W3CDTF">2015-01-08T08:34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