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436-D62C-49A9-87E4-0F0E6AA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7AE-20A9-4417-83EB-00B65695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B37-7224-45A5-9994-B34F54D7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E86-EC2E-4C17-8532-59534B57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D5B2-FC15-483D-9258-CCFA3DF2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FB63-8111-4B5F-82DE-8BC0C970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02B-DC79-4B00-90E8-C0331F81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18B1-11DA-4B38-A6F6-572FD9A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F2B8-ED06-4A5C-8CEC-5C2F2C15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92D7-10DE-4D37-9D70-D2DD55A3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A5D7-E133-4126-915B-F9F32BE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968-4A99-4159-BDD4-2B2C88EA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6E8-4C56-486F-896C-C390C91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1AE8-22C7-45E4-BAD4-B8854916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9EB3-DB86-4E04-88DD-F2C5BAF6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C308-5CF8-4950-AC6A-C14FD3C4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6A16-23F7-4939-B48A-B683CFE6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73A-10B4-4F5F-86BD-0F9F020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E53-96B5-49C3-B190-A6B4826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2D6-05DF-4C3F-884D-DFAB8912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9D2-4CE1-4C47-963E-5946223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125-4FF7-4668-BE42-E460310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309-E939-4934-9B32-3C5687A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B2C-3FCD-498B-96B1-37A0149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EFFD-9352-4F64-8CBA-1D6E3E6DE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672-C3DF-4632-82BA-EA0E0AF7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七彩热气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5040" y="6093000"/>
            <a:ext cx="2255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zh-TW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zh-TW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0:48:43Z</dcterms:created>
  <dc:creator/>
  <dc:description/>
  <dc:language>en-US</dc:language>
  <cp:lastModifiedBy>imagedemo</cp:lastModifiedBy>
  <dcterms:modified xsi:type="dcterms:W3CDTF">2015-01-09T03:18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