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78F-3E36-478D-8672-53A3E5E4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2CED-E56F-4FA9-B9BA-1E3A5472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80A-FFC8-4BB1-AD7A-98BA8C24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48F-B87A-41D1-991A-906B3DAA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1525-0C11-492D-AB7F-3DC2B1C1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38a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D42D-FC75-434E-BBCD-742AD7C0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0D83-1BF4-4D89-9ECB-EC57FC56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97E1-6EC3-41AD-BBD6-A14ADD21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4685-1979-4B72-8800-C474BC5A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38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A8A6-A70D-4B7F-8007-B72B2021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D057-3EFF-4623-ABBF-6E931FF5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38a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C93-8BD1-4AA6-A903-683811C1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5163-DBB9-44AB-ACA2-B3F71ABD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73B9-6844-474A-90FD-4C147574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9554-AD6A-4985-BF75-E278E9D6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FDCD-ED6A-4878-B223-867C7E3E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9B01-7BF3-461F-BC94-948C86D4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3074-D32F-497E-9FE2-41D32CBF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11F-41D1-4661-8BA9-D3043FA2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C78-A1A0-40D3-B64A-B7DFB58F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38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B9E6-0267-4ADB-B6BB-A2889650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4BD2-B140-40E1-B419-8B4BF3EB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04B-8125-477D-A725-9620AA44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F79-2E82-475E-ABB3-F364AA9F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2E30-7C68-4B6C-8DDD-A3AB2A3C9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38a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a38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97E0-5A2C-4DDA-90BF-DA93E6E44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38a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a38a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38ac"/>
                </a:solidFill>
                <a:latin typeface="Arial"/>
              </a:rPr>
              <a:t>企鹅</a:t>
            </a:r>
            <a:r>
              <a:rPr b="1" lang="en-US" sz="4400" spc="-1" strike="noStrike">
                <a:solidFill>
                  <a:srgbClr val="0a38ac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a38ac"/>
                </a:solidFill>
                <a:latin typeface="Arial"/>
              </a:rPr>
              <a:t>模板免费下载</a:t>
            </a:r>
            <a:endParaRPr b="1" lang="en-US" sz="4400" spc="-1" strike="noStrike">
              <a:solidFill>
                <a:srgbClr val="0a38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38a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454800"/>
            <a:ext cx="62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5:54:55Z</dcterms:created>
  <dc:creator>Administrator</dc:creator>
  <dc:description/>
  <dc:language>en-US</dc:language>
  <cp:lastModifiedBy/>
  <dcterms:modified xsi:type="dcterms:W3CDTF">2015-01-09T03:15:0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