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BC45-03AA-42E2-BB05-C8157EBF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44F-4B1E-420F-BE41-A167713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834-D4BB-4753-9EB2-DC58BE65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12B-FA4F-4BA0-A23D-D149898F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1EB-11FC-4D4A-BF0B-AB2CC271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775-8113-49E7-B220-1B91354E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ACE-764D-4F45-8500-7C1B5190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405-7DBF-486E-8786-F0E31027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4DC-E990-486C-AF11-5D9F43A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C85-E194-40A0-9840-D6F4481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902D-2864-439F-85DA-7E107F01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4E0-C5B8-406B-AA67-1D6483BA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517-1D15-4437-BB9A-A06D8AA9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47680" y="1628640"/>
            <a:ext cx="10109160" cy="3117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5600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54936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162864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549360"/>
            <a:ext cx="52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720" y="162864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720" y="119700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720" y="119700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720" y="119700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6720" y="119700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33336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1197000"/>
            <a:ext cx="53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黑体"/>
                <a:ea typeface="黑体"/>
              </a:rPr>
              <a:t>点击此处编辑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619600">
            <a:off x="-175680" y="1699920"/>
            <a:ext cx="9702720" cy="2990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06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2:42:26Z</dcterms:created>
  <dc:creator>microsoft</dc:creator>
  <dc:description/>
  <dc:language>en-US</dc:language>
  <cp:lastModifiedBy>microsoft</cp:lastModifiedBy>
  <dcterms:modified xsi:type="dcterms:W3CDTF">2014-05-15T06:50:55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