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841B-A8FD-4F65-96ED-CC96F4F9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40D9-6C73-4398-9446-2D591B42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8988-E56C-4703-9034-F07E13A7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C364-398A-4F38-8EFD-5C8AC652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B16E-F0E8-4ADB-A071-8D3950D7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9ECB-BEB1-4ABB-B23D-8C88A4BF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54DD-0EA6-461D-A4E6-70380F97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5ADB-4505-4057-A03D-8808917B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7826-CF32-403F-97CC-F0DB2978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F172-9D7F-4A1D-918A-86CC56C8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8028-D7B0-4120-8929-A35D026C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0DD-5D05-4295-B078-819B6AB5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EFFD-F42C-4030-B102-AA59002C9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3488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青绿色</a:t>
            </a: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模板下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262626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14440" y="157176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Lorem ipsum dolor sit amet, consectetuer adipiscing elit. Vivamus et magna. Fusce sed sem sed magna suscipit egest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979640" y="57340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5:46:53Z</dcterms:created>
  <dc:creator/>
  <dc:description/>
  <dc:language>en-US</dc:language>
  <cp:lastModifiedBy>Eric</cp:lastModifiedBy>
  <dcterms:modified xsi:type="dcterms:W3CDTF">2015-01-08T12:28:25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