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1EE-EABD-4DD4-BDAB-3BA1A05A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356-CA22-49C9-8788-88B8F3A3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A2B-76A9-4C6D-BEF1-8FEDFB7B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150-920D-4896-8651-A2E24645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5F7A-92AC-4B55-B57C-39B3FBDE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0E40-B8E9-47D4-835C-5A9C9F19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AADC-2B79-4395-B9D6-6B7E67BC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DD9B-3374-42FF-A147-F85DC24D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1114-28C3-498F-AEA9-D898EF3B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146B-E2ED-4637-B730-54495111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A49C-BDB2-4AAE-B5EC-0D6450AD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569-A737-48AB-898B-D0F2AFDD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BFF1-77CF-4D73-8DA5-C45EAC6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0438-CDA1-4977-8A0D-04C0CB4F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CC95-6B59-4FB0-A029-15D99738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1E8A-BB68-47EF-A562-E0E8BAA7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4A84-D502-4B72-9765-C3542C32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6756-28AF-430C-B80B-93D1CA08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6800-F23D-4224-A433-5FD9F0FE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89AD2-48FA-41C3-A797-BCE4C3C7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4298-6B5B-45D0-99D9-45830A7D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67FE6-D804-4794-B35E-C420E7F2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E08-D03D-4DDC-BDF3-7FC09186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E19A-A6FC-45C8-921C-9BB916B4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DECC-7EC5-4C58-8706-7216E04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E01E-EEF7-4128-B7C2-4943ED6B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6CEE-17CF-43DF-9AFF-EBC25970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DD65E-F16C-4378-B2C1-05DA6381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0E572-C79E-437A-BB32-640F94EE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B237-3E8A-48E9-91B5-AC552021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C83-696C-410B-96A2-491F75EE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5EC-D191-464C-9375-8D0510B5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69E-E6F2-4D10-9E8D-6C191CF9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1A2-2B92-4EF0-B2B4-DCBD8D21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855-4D49-404C-8573-30E702F3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D5D-4C58-4C13-983D-0971A94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D2BE-E6A1-4D6A-B5D5-BD314F563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6760-39ED-400B-9926-0A4F3802B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361B-E933-44AD-B2B5-8634E04AC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牵手</a:t>
            </a:r>
            <a:r>
              <a:rPr b="0" lang="zh-CN" sz="4400" spc="-1" strike="noStrike">
                <a:solidFill>
                  <a:srgbClr val="1c1c1c"/>
                </a:solidFill>
                <a:latin typeface="Arial"/>
                <a:ea typeface="宋体"/>
              </a:rPr>
              <a:t>PPT</a:t>
            </a: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模板下载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00cc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0" lang="zh-CN" sz="3200" spc="-1" strike="noStrike" u="sng">
                  <a:solidFill>
                    <a:srgbClr val="cc00cc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0" lang="en-US" sz="3200" spc="-1" strike="noStrike" u="sng">
                  <a:solidFill>
                    <a:srgbClr val="cc00cc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1:19:02Z</dcterms:created>
  <dc:creator>Gary Blue</dc:creator>
  <dc:description/>
  <dc:language>en-US</dc:language>
  <cp:lastModifiedBy>Gary Blue</cp:lastModifiedBy>
  <dcterms:modified xsi:type="dcterms:W3CDTF">2015-01-09T03:01:1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