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5204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F83-84BD-4827-BB78-6C853AE2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360720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F2C-80AC-4CAC-BE3A-81CF3F80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816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CFA-BAA5-4DE5-A1A7-65A27EDC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580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6216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580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6216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276-C59E-44A2-93C3-6F29127C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CE56-7960-4AC9-9D9D-53F6B154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5D3D-F5B4-4291-A4D8-EBA2C1BF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A611-B416-4EEA-A88C-3E4859A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2D45-9175-4598-96FB-B63A74E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CB4F-A30A-463F-A949-84A56DFC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7640" y="71280"/>
            <a:ext cx="103665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0D69-A713-4DC3-BC86-0888E2CF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608B-C8AE-4FA0-A0AA-146DD56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90F-55DC-45B9-9D01-A8C1E361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8816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E731-65F6-4985-BC0D-44256075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31FB-5B64-444F-AEAA-D17666D3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9440" y="360720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869D-7CB6-47CE-88B6-5BCE3673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8816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2DD1-A68F-4D9B-83EC-5569CAE0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580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6216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944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580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6216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8D6D-12A0-49A5-8B96-009CE3A5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7BD-25AE-499B-B819-FBF33686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371-FA49-40C0-A5E4-438FD0C3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16C-2C5C-473D-A7EA-25710DE5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71280"/>
            <a:ext cx="103665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CCE-ECE5-41A6-B8FB-04BDBFF1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1E5-C85A-4C48-B672-1042994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816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59D-4977-4CB3-84C9-6A2B7007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CD6-D524-43F0-BC7E-BC6E19C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5977080"/>
            <a:ext cx="2687400" cy="374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5977080"/>
            <a:ext cx="3648240" cy="374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5160" y="5900760"/>
            <a:ext cx="2689200" cy="4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E43-C899-41C8-A11B-3F5646ACC5F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0" y="201600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6000" y="5900760"/>
            <a:ext cx="2687400" cy="4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5160" y="5900760"/>
            <a:ext cx="3647880" cy="4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255160" y="5900760"/>
            <a:ext cx="2689200" cy="4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489-9871-4253-B470-B73F5EE10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76000" y="1516320"/>
            <a:ext cx="1036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 algn="ctr">
              <a:spcBef>
                <a:spcPts val="7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80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11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16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16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0" y="201600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七一建党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下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96000" y="3095280"/>
            <a:ext cx="5975280" cy="6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280" y="6121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0" y="201600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96000" y="3095280"/>
            <a:ext cx="5975280" cy="6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此添加署名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10665000" cy="6480000"/>
            <a:chOff x="0" y="0"/>
            <a:chExt cx="10665000" cy="6480000"/>
          </a:xfrm>
        </p:grpSpPr>
        <p:sp>
          <p:nvSpPr>
            <p:cNvPr id="90" name="矩形 4"/>
            <p:cNvSpPr/>
            <p:nvPr/>
          </p:nvSpPr>
          <p:spPr>
            <a:xfrm>
              <a:off x="1604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106650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2368080" y="3380040"/>
              <a:ext cx="58791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9:47:57Z</dcterms:created>
  <dc:creator/>
  <dc:description/>
  <dc:language>en-US</dc:language>
  <cp:lastModifiedBy/>
  <dcterms:modified xsi:type="dcterms:W3CDTF">2015-01-08T07:10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