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92F-C282-49F5-AB96-6CD497EC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76A-03B6-4C91-9B60-E52CEE54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7B5-8D14-4340-BDF8-EE79F8FF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653-A31E-457C-A303-215F3FFB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59D0-A564-44D7-91BD-CA561F38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1BF0-69F9-46BD-8405-49FE629F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FA17-545B-4487-92B8-666E25FE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7839-6D24-4D06-B75B-CF99C262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22FF-9109-40CA-ACF1-F35AF70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E9EA-A802-4A46-8F15-0854ECC9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1C30-8EB3-4F2B-BE4D-3F92535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C9F-B6CE-49D8-96D2-51AD127E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36C6-F5D3-4909-A7F3-3EC496B2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7FE1-9095-40C9-A78E-BCF975D4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4FBD-5322-4BA4-86D1-EADBB8C2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FF6F-4CC6-4CBF-A7B0-533DA8D9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C83F-5FCC-44D6-87F9-887DE550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91D-9490-4FD5-AADB-676A0040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4CB-9750-4E30-920E-B5CE8DB3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8D1-A61C-455A-9D32-EF75AD01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8BB-8483-48DD-8E33-A8577283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F06-0C0E-483A-9279-ACC69C74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197-5DFD-4B69-A4FB-2BEDEC0C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BE2-CD81-4B59-B370-F33BB7F5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F577-86D0-445A-90B8-8863A7F145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B815-A27D-478E-BD3F-95C488A5ED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企业投标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6720" y="1299960"/>
            <a:ext cx="64008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72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8272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841320" y="83664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1319040" y="1550880"/>
            <a:ext cx="17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33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33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33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52:17Z</dcterms:created>
  <dc:creator/>
  <dc:description/>
  <dc:language>en-US</dc:language>
  <cp:lastModifiedBy>雨林木风</cp:lastModifiedBy>
  <dcterms:modified xsi:type="dcterms:W3CDTF">2015-01-09T03:06:06Z</dcterms:modified>
  <cp:revision>3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