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34900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34900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水波荡漾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050920" y="3644640"/>
            <a:ext cx="64008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34900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谢谢观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/>
  <dc:description/>
  <dc:language>en-US</dc:language>
  <cp:lastModifiedBy>小田</cp:lastModifiedBy>
  <dcterms:modified xsi:type="dcterms:W3CDTF">2015-01-07T17:18:28Z</dcterms:modified>
  <cp:revision>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