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89080" y="1684080"/>
            <a:ext cx="546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深蓝色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995640" y="2421000"/>
            <a:ext cx="44560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31760" y="3286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628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小田</cp:lastModifiedBy>
  <dcterms:modified xsi:type="dcterms:W3CDTF">2015-01-08T03:44:13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