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79CE-D0C6-45D2-8031-CA5ED53F0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B740-2609-430F-B994-210875E3F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EF89-A138-4EE9-B829-49535B7C6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4583-1CF8-468A-8E7D-4B821CC46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8A73-0711-46C3-9427-FB6ED26D9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9A64-D5A6-442B-8520-B40C866D2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9B76-704F-439B-B58B-ACC3B3505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C738-EC09-433F-A2AE-87A1E286B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007C-34C7-4F6A-8771-CECB0F1C7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6322-0616-48FB-8C87-EAB7F6327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D922-3339-447C-AEA4-5D3F6A70F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BFA4-FD2C-4F91-9E51-AABE10BCF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bg2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FF2F1D-D13D-4A63-8CE4-35D2C8CE72D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16000" y="259920"/>
            <a:ext cx="5832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95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60" y="4352760"/>
            <a:ext cx="474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赛马运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2B2DF04-D7CA-473A-932F-06D8F3782F6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13280" y="63104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微软用户</cp:lastModifiedBy>
  <dcterms:modified xsi:type="dcterms:W3CDTF">2015-01-09T03:29:56Z</dcterms:modified>
  <cp:revision>2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