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3480" y="356256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216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33480" y="356256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2160" y="356256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06680" y="133344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79880" y="133344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33480" y="356256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06680" y="356256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79880" y="356256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33480" y="133344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2160" y="133344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960" y="47160"/>
            <a:ext cx="83055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160" y="133344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33480" y="356256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33480" y="133344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216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2160" y="356256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216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33480" y="356256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33480" y="356256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216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33480" y="356256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2160" y="356256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06680" y="133344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79880" y="133344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33480" y="356256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06680" y="356256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79880" y="356256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2160" y="133344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960" y="47160"/>
            <a:ext cx="83055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2160" y="133344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33480" y="356256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16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2160" y="356256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-8244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3348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160" y="133344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3480" y="356256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47160"/>
            <a:ext cx="83055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3480" y="133344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7960" y="200160"/>
            <a:ext cx="73915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37960" y="904680"/>
            <a:ext cx="739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37960" y="200160"/>
            <a:ext cx="73915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Microsoft Sans Serif"/>
              </a:rPr>
              <a:t>兔子</a:t>
            </a:r>
            <a:r>
              <a:rPr b="0" lang="zh-CN" sz="36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PPT</a:t>
            </a:r>
            <a:r>
              <a:rPr b="0" lang="en-US" sz="3600" spc="-1" strike="noStrike">
                <a:solidFill>
                  <a:srgbClr val="4d4d4d"/>
                </a:solidFill>
                <a:latin typeface="Microsoft Sans Serif"/>
              </a:rPr>
              <a:t>模板下载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617600" y="6477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33480" y="133344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47160"/>
            <a:ext cx="80769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4788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471b4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471b4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471b4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Nick</cp:lastModifiedBy>
  <dcterms:modified xsi:type="dcterms:W3CDTF">2015-01-08T12:21:33Z</dcterms:modified>
  <cp:revision>37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