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842-8D67-4C0B-AF38-2FA2EAD5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5BD-7FA4-4E5A-A17E-28CE7FCB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F64-37D8-4E77-A28D-68469B01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97C-C9BB-4DA4-913D-A14934D0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D80C-A948-4EAA-BF63-29083B88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FEC8-EC9B-4C87-9264-13021DCA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DBED-6C8C-44E5-8960-A3B43895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972E-6041-4714-9D0F-9CAC6269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F40C-66B1-4279-89A9-96325512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C7C6-4D9A-4EC6-8A89-B56DB795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E389-B4EC-4C50-9179-0DD1915E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B29-443D-4BC7-9410-0C6199BC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4561-1BBD-42CC-A379-95BCDAD7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F8F8-1052-4F5D-88C8-F9FBF823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F0BE-68B9-4BC0-90C1-BDBC785C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642F-5691-4380-9569-C5C29208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BA3F-9E17-4647-81FD-27FD9BA5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C9D-2830-49DC-9A32-C1F712D6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452-A8AA-4D6E-9969-2AF976B9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4F0-C8B9-4D2C-8B1A-FA8271FD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CB9-B3C7-4A31-9923-1C379916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F99-3E8F-47E7-A3EF-FEA758C4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9BE-4599-40E1-8FAE-5BDFA8E4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130-4FF6-4C0B-8D92-377222A9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>
              <a:alpha val="1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1CF0-BE54-448B-AB17-77083AE0F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E46A-DE15-4920-9C71-6E54B4AA2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22640" y="3246480"/>
            <a:ext cx="31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3:10:14Z</dcterms:created>
  <dc:creator>Administrator</dc:creator>
  <dc:description/>
  <dc:language>en-US</dc:language>
  <cp:lastModifiedBy/>
  <dcterms:modified xsi:type="dcterms:W3CDTF">2015-01-09T03:35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