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hyperlink" Target="http://www.nordri.net/" TargetMode="External"/><Relationship Id="rId9" Type="http://schemas.openxmlformats.org/officeDocument/2006/relationships/hyperlink" Target="http://www.nordridesign.com/" TargetMode="External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n/" TargetMode="External"/><Relationship Id="rId15" Type="http://schemas.openxmlformats.org/officeDocument/2006/relationships/hyperlink" Target="http://creativecommons.org/licenses/by-nc/2.5/cn/legalcode" TargetMode="External"/><Relationship Id="rId16" Type="http://schemas.openxmlformats.org/officeDocument/2006/relationships/image" Target="../media/image5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25.xml"/><Relationship Id="rId19" Type="http://schemas.openxmlformats.org/officeDocument/2006/relationships/slideLayout" Target="../slideLayouts/slideLayout26.xml"/><Relationship Id="rId20" Type="http://schemas.openxmlformats.org/officeDocument/2006/relationships/slideLayout" Target="../slideLayouts/slideLayout27.xml"/><Relationship Id="rId21" Type="http://schemas.openxmlformats.org/officeDocument/2006/relationships/slideLayout" Target="../slideLayouts/slideLayout28.xml"/><Relationship Id="rId22" Type="http://schemas.openxmlformats.org/officeDocument/2006/relationships/slideLayout" Target="../slideLayouts/slideLayout29.xml"/><Relationship Id="rId23" Type="http://schemas.openxmlformats.org/officeDocument/2006/relationships/slideLayout" Target="../slideLayouts/slideLayout30.xml"/><Relationship Id="rId24" Type="http://schemas.openxmlformats.org/officeDocument/2006/relationships/slideLayout" Target="../slideLayouts/slideLayout31.xml"/><Relationship Id="rId25" Type="http://schemas.openxmlformats.org/officeDocument/2006/relationships/slideLayout" Target="../slideLayouts/slideLayout32.xml"/><Relationship Id="rId26" Type="http://schemas.openxmlformats.org/officeDocument/2006/relationships/slideLayout" Target="../slideLayouts/slideLayout33.xml"/><Relationship Id="rId27" Type="http://schemas.openxmlformats.org/officeDocument/2006/relationships/slideLayout" Target="../slideLayouts/slideLayout34.xml"/><Relationship Id="rId28" Type="http://schemas.openxmlformats.org/officeDocument/2006/relationships/slideLayout" Target="../slideLayouts/slideLayout35.xml"/><Relationship Id="rId2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8"/>
          <p:cNvSpPr/>
          <p:nvPr/>
        </p:nvSpPr>
        <p:spPr>
          <a:xfrm>
            <a:off x="114480" y="0"/>
            <a:ext cx="1573200" cy="6858000"/>
          </a:xfrm>
          <a:prstGeom prst="pie">
            <a:avLst/>
          </a:prstGeom>
          <a:gradFill rotWithShape="0">
            <a:gsLst>
              <a:gs pos="0">
                <a:srgbClr val="c30a0c"/>
              </a:gs>
              <a:gs pos="100000">
                <a:srgbClr val="c90e0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10"/>
          <p:cNvSpPr/>
          <p:nvPr/>
        </p:nvSpPr>
        <p:spPr>
          <a:xfrm>
            <a:off x="-31680" y="0"/>
            <a:ext cx="1709640" cy="6858000"/>
          </a:xfrm>
          <a:prstGeom prst="pie">
            <a:avLst/>
          </a:prstGeom>
          <a:solidFill>
            <a:srgbClr val="070707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E78B6A7-188D-469A-B0F4-54CF44C4E811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9" descr="5.jpg"/>
          <p:cNvPicPr/>
          <p:nvPr/>
        </p:nvPicPr>
        <p:blipFill>
          <a:blip r:embed="rId2"/>
          <a:stretch/>
        </p:blipFill>
        <p:spPr>
          <a:xfrm>
            <a:off x="3913200" y="1071720"/>
            <a:ext cx="5230800" cy="5768640"/>
          </a:xfrm>
          <a:prstGeom prst="rect">
            <a:avLst/>
          </a:prstGeom>
          <a:ln w="0">
            <a:noFill/>
          </a:ln>
        </p:spPr>
      </p:pic>
      <p:sp>
        <p:nvSpPr>
          <p:cNvPr id="42" name="任意多边形 11"/>
          <p:cNvSpPr/>
          <p:nvPr/>
        </p:nvSpPr>
        <p:spPr>
          <a:xfrm>
            <a:off x="5335560" y="17640"/>
            <a:ext cx="1231920" cy="6840360"/>
          </a:xfrm>
          <a:prstGeom prst="pie">
            <a:avLst/>
          </a:prstGeom>
          <a:gradFill rotWithShape="0">
            <a:gsLst>
              <a:gs pos="0">
                <a:srgbClr val="c30a0c"/>
              </a:gs>
              <a:gs pos="100000">
                <a:srgbClr val="c90e0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2"/>
          <p:cNvSpPr/>
          <p:nvPr/>
        </p:nvSpPr>
        <p:spPr>
          <a:xfrm>
            <a:off x="-31680" y="0"/>
            <a:ext cx="6567480" cy="6858000"/>
          </a:xfrm>
          <a:prstGeom prst="pie">
            <a:avLst/>
          </a:prstGeom>
          <a:solidFill>
            <a:srgbClr val="070707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29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0517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581120" y="2435400"/>
            <a:ext cx="1647720" cy="669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3832200" y="2565360"/>
            <a:ext cx="1479600" cy="447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rcRect l="0" t="0" r="394" b="0"/>
          <a:stretch/>
        </p:blipFill>
        <p:spPr>
          <a:xfrm>
            <a:off x="6066000" y="2583000"/>
            <a:ext cx="1415880" cy="425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>
            <a:hlinkClick r:id="rId8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>
            <a:hlinkClick r:id="rId9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>
            <a:hlinkClick r:id="rId10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>
            <a:hlinkClick r:id="rId11"/>
          </p:cNvPr>
          <p:cNvSpPr/>
          <p:nvPr/>
        </p:nvSpPr>
        <p:spPr>
          <a:xfrm>
            <a:off x="2368080" y="3859920"/>
            <a:ext cx="30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本作品采用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进行许可。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12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3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4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i="1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5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i="1" lang="en-US" sz="1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cc"/>
          <p:cNvPicPr/>
          <p:nvPr/>
        </p:nvPicPr>
        <p:blipFill>
          <a:blip r:embed="rId16"/>
          <a:stretch/>
        </p:blipFill>
        <p:spPr>
          <a:xfrm>
            <a:off x="3635280" y="1125360"/>
            <a:ext cx="2017800" cy="517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349800" y="1125360"/>
            <a:ext cx="0" cy="576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7">
            <a:grayscl/>
          </a:blip>
          <a:srcRect l="0" t="0" r="394" b="0"/>
          <a:stretch/>
        </p:blipFill>
        <p:spPr>
          <a:xfrm>
            <a:off x="1258920" y="1095480"/>
            <a:ext cx="1942920" cy="585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4d4d4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中国专业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8"/>
    <p:sldLayoutId id="2147483676" r:id="rId19"/>
    <p:sldLayoutId id="2147483677" r:id="rId20"/>
    <p:sldLayoutId id="2147483678" r:id="rId21"/>
    <p:sldLayoutId id="2147483679" r:id="rId22"/>
    <p:sldLayoutId id="2147483680" r:id="rId23"/>
    <p:sldLayoutId id="2147483681" r:id="rId24"/>
    <p:sldLayoutId id="2147483682" r:id="rId25"/>
    <p:sldLayoutId id="2147483683" r:id="rId26"/>
    <p:sldLayoutId id="2147483684" r:id="rId27"/>
    <p:sldLayoutId id="2147483685" r:id="rId28"/>
    <p:sldLayoutId id="2147483686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7.png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52527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68360" y="429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小金人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0360" y="6021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332000" y="1413000"/>
            <a:ext cx="7332120" cy="647280"/>
            <a:chOff x="1332000" y="1413000"/>
            <a:chExt cx="7332120" cy="647280"/>
          </a:xfrm>
        </p:grpSpPr>
        <p:grpSp>
          <p:nvGrpSpPr>
            <p:cNvPr id="144" name=""/>
            <p:cNvGrpSpPr/>
            <p:nvPr/>
          </p:nvGrpSpPr>
          <p:grpSpPr>
            <a:xfrm>
              <a:off x="1332000" y="1413000"/>
              <a:ext cx="7332120" cy="432000"/>
              <a:chOff x="1332000" y="1413000"/>
              <a:chExt cx="7332120" cy="432000"/>
            </a:xfrm>
          </p:grpSpPr>
          <p:sp>
            <p:nvSpPr>
              <p:cNvPr id="145" name=""/>
              <p:cNvSpPr/>
              <p:nvPr/>
            </p:nvSpPr>
            <p:spPr>
              <a:xfrm>
                <a:off x="1332000" y="1413000"/>
                <a:ext cx="916200" cy="43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248200" y="1413000"/>
                <a:ext cx="915840" cy="432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164040" y="1413000"/>
                <a:ext cx="916200" cy="4320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080600" y="1413000"/>
                <a:ext cx="916200" cy="432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999680" y="1413000"/>
                <a:ext cx="915840" cy="432000"/>
              </a:xfrm>
              <a:prstGeom prst="rect">
                <a:avLst/>
              </a:prstGeom>
              <a:solidFill>
                <a:srgbClr val="ff0517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915520" y="1413000"/>
                <a:ext cx="916200" cy="432000"/>
              </a:xfrm>
              <a:prstGeom prst="rect">
                <a:avLst/>
              </a:prstGeom>
              <a:solidFill>
                <a:srgbClr val="bc000d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32080" y="1413000"/>
                <a:ext cx="916200" cy="432000"/>
              </a:xfrm>
              <a:prstGeom prst="rect">
                <a:avLst/>
              </a:prstGeom>
              <a:solidFill>
                <a:srgbClr val="3a0004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748280" y="1413000"/>
                <a:ext cx="915840" cy="432000"/>
              </a:xfrm>
              <a:prstGeom prst="rect">
                <a:avLst/>
              </a:prstGeom>
              <a:solidFill>
                <a:srgbClr val="ff757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1332000" y="1845000"/>
              <a:ext cx="7332120" cy="215280"/>
              <a:chOff x="1332000" y="1845000"/>
              <a:chExt cx="7332120" cy="215280"/>
            </a:xfrm>
          </p:grpSpPr>
          <p:sp>
            <p:nvSpPr>
              <p:cNvPr id="154" name=""/>
              <p:cNvSpPr/>
              <p:nvPr/>
            </p:nvSpPr>
            <p:spPr>
              <a:xfrm>
                <a:off x="1332000" y="1845000"/>
                <a:ext cx="91620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248200" y="1845000"/>
                <a:ext cx="91584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164040" y="1845000"/>
                <a:ext cx="91620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080600" y="1845000"/>
                <a:ext cx="91620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999680" y="1845000"/>
                <a:ext cx="91584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15520" y="1845000"/>
                <a:ext cx="91620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32080" y="1845000"/>
                <a:ext cx="91620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748280" y="1845000"/>
                <a:ext cx="91584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6040" y="2387160"/>
            <a:ext cx="8229600" cy="32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197080" y="1484280"/>
            <a:ext cx="5543640" cy="792000"/>
            <a:chOff x="2197080" y="1484280"/>
            <a:chExt cx="5543640" cy="792000"/>
          </a:xfrm>
        </p:grpSpPr>
        <p:sp>
          <p:nvSpPr>
            <p:cNvPr id="166" name=""/>
            <p:cNvSpPr/>
            <p:nvPr/>
          </p:nvSpPr>
          <p:spPr>
            <a:xfrm>
              <a:off x="2197080" y="1484280"/>
              <a:ext cx="5543640" cy="792000"/>
            </a:xfrm>
            <a:prstGeom prst="roundRect">
              <a:avLst>
                <a:gd name="adj" fmla="val 13028"/>
              </a:avLst>
            </a:prstGeom>
            <a:gradFill rotWithShape="0">
              <a:gsLst>
                <a:gs pos="0">
                  <a:srgbClr val="ff0517"/>
                </a:gs>
                <a:gs pos="100000">
                  <a:srgbClr val="3a00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25520" y="152064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197080" y="2565360"/>
            <a:ext cx="5543640" cy="792000"/>
            <a:chOff x="2197080" y="2565360"/>
            <a:chExt cx="5543640" cy="792000"/>
          </a:xfrm>
        </p:grpSpPr>
        <p:sp>
          <p:nvSpPr>
            <p:cNvPr id="169" name=""/>
            <p:cNvSpPr/>
            <p:nvPr/>
          </p:nvSpPr>
          <p:spPr>
            <a:xfrm>
              <a:off x="2197080" y="256536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25520" y="260172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197080" y="3645000"/>
            <a:ext cx="5543640" cy="792000"/>
            <a:chOff x="2197080" y="3645000"/>
            <a:chExt cx="5543640" cy="792000"/>
          </a:xfrm>
        </p:grpSpPr>
        <p:sp>
          <p:nvSpPr>
            <p:cNvPr id="172" name=""/>
            <p:cNvSpPr/>
            <p:nvPr/>
          </p:nvSpPr>
          <p:spPr>
            <a:xfrm>
              <a:off x="2197080" y="364500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25520" y="368136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197080" y="4724280"/>
            <a:ext cx="5543640" cy="792000"/>
            <a:chOff x="2197080" y="4724280"/>
            <a:chExt cx="5543640" cy="792000"/>
          </a:xfrm>
        </p:grpSpPr>
        <p:sp>
          <p:nvSpPr>
            <p:cNvPr id="175" name=""/>
            <p:cNvSpPr/>
            <p:nvPr/>
          </p:nvSpPr>
          <p:spPr>
            <a:xfrm>
              <a:off x="2197080" y="4724280"/>
              <a:ext cx="5543640" cy="792000"/>
            </a:xfrm>
            <a:prstGeom prst="roundRect">
              <a:avLst>
                <a:gd name="adj" fmla="val 11824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25520" y="476064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332000" y="1484280"/>
            <a:ext cx="792000" cy="792000"/>
            <a:chOff x="1332000" y="1484280"/>
            <a:chExt cx="792000" cy="792000"/>
          </a:xfrm>
        </p:grpSpPr>
        <p:sp>
          <p:nvSpPr>
            <p:cNvPr id="178" name=""/>
            <p:cNvSpPr/>
            <p:nvPr/>
          </p:nvSpPr>
          <p:spPr>
            <a:xfrm>
              <a:off x="1332000" y="148428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1586160" y="169848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3a0004"/>
                  </a:solidFill>
                  <a:latin typeface="Arial Black"/>
                </a:rPr>
                <a:t>1</a:t>
              </a:r>
              <a:endParaRPr b="0" i="1" lang="en-US" sz="1400" spc="-1" strike="noStrike">
                <a:ln w="0">
                  <a:noFill/>
                </a:ln>
                <a:solidFill>
                  <a:srgbClr val="3a0004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68360" y="152064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32000" y="2565360"/>
            <a:ext cx="792000" cy="792000"/>
            <a:chOff x="1332000" y="2565360"/>
            <a:chExt cx="792000" cy="792000"/>
          </a:xfrm>
        </p:grpSpPr>
        <p:sp>
          <p:nvSpPr>
            <p:cNvPr id="182" name=""/>
            <p:cNvSpPr/>
            <p:nvPr/>
          </p:nvSpPr>
          <p:spPr>
            <a:xfrm>
              <a:off x="1332000" y="256536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1586160" y="277956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68360" y="26017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332000" y="3645000"/>
            <a:ext cx="792000" cy="792000"/>
            <a:chOff x="1332000" y="3645000"/>
            <a:chExt cx="792000" cy="792000"/>
          </a:xfrm>
        </p:grpSpPr>
        <p:sp>
          <p:nvSpPr>
            <p:cNvPr id="186" name=""/>
            <p:cNvSpPr/>
            <p:nvPr/>
          </p:nvSpPr>
          <p:spPr>
            <a:xfrm>
              <a:off x="1332000" y="364500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1586160" y="385920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68360" y="36799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332000" y="4724280"/>
            <a:ext cx="792000" cy="792000"/>
            <a:chOff x="1332000" y="4724280"/>
            <a:chExt cx="792000" cy="792000"/>
          </a:xfrm>
        </p:grpSpPr>
        <p:sp>
          <p:nvSpPr>
            <p:cNvPr id="190" name=""/>
            <p:cNvSpPr/>
            <p:nvPr/>
          </p:nvSpPr>
          <p:spPr>
            <a:xfrm>
              <a:off x="1332000" y="472428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1586160" y="493848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68360" y="476064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438200" y="2133720"/>
            <a:ext cx="3313080" cy="3456000"/>
            <a:chOff x="1438200" y="2133720"/>
            <a:chExt cx="3313080" cy="3456000"/>
          </a:xfrm>
        </p:grpSpPr>
        <p:sp>
          <p:nvSpPr>
            <p:cNvPr id="195" name=""/>
            <p:cNvSpPr/>
            <p:nvPr/>
          </p:nvSpPr>
          <p:spPr>
            <a:xfrm>
              <a:off x="143820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3a00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74560" y="2170080"/>
              <a:ext cx="320832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455840" y="1573200"/>
            <a:ext cx="3295440" cy="487440"/>
            <a:chOff x="1455840" y="1573200"/>
            <a:chExt cx="3295440" cy="487440"/>
          </a:xfrm>
        </p:grpSpPr>
        <p:sp>
          <p:nvSpPr>
            <p:cNvPr id="198" name=""/>
            <p:cNvSpPr/>
            <p:nvPr/>
          </p:nvSpPr>
          <p:spPr>
            <a:xfrm>
              <a:off x="1455840" y="1573200"/>
              <a:ext cx="3295440" cy="48744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3a0004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87160" y="1609560"/>
              <a:ext cx="322668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291280" y="2133720"/>
            <a:ext cx="3313080" cy="3456000"/>
            <a:chOff x="5291280" y="2133720"/>
            <a:chExt cx="3313080" cy="3456000"/>
          </a:xfrm>
        </p:grpSpPr>
        <p:sp>
          <p:nvSpPr>
            <p:cNvPr id="201" name=""/>
            <p:cNvSpPr/>
            <p:nvPr/>
          </p:nvSpPr>
          <p:spPr>
            <a:xfrm>
              <a:off x="529128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27640" y="2170080"/>
              <a:ext cx="320832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308560" y="1573200"/>
            <a:ext cx="3295800" cy="487440"/>
            <a:chOff x="5308560" y="1573200"/>
            <a:chExt cx="3295800" cy="487440"/>
          </a:xfrm>
        </p:grpSpPr>
        <p:sp>
          <p:nvSpPr>
            <p:cNvPr id="204" name=""/>
            <p:cNvSpPr/>
            <p:nvPr/>
          </p:nvSpPr>
          <p:spPr>
            <a:xfrm>
              <a:off x="5308560" y="1573200"/>
              <a:ext cx="3295800" cy="48744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40240" y="1609560"/>
              <a:ext cx="322740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146240" y="1268280"/>
            <a:ext cx="3743280" cy="4232160"/>
            <a:chOff x="1146240" y="1268280"/>
            <a:chExt cx="3743280" cy="4232160"/>
          </a:xfrm>
        </p:grpSpPr>
        <p:sp>
          <p:nvSpPr>
            <p:cNvPr id="208" name=""/>
            <p:cNvSpPr/>
            <p:nvPr/>
          </p:nvSpPr>
          <p:spPr>
            <a:xfrm>
              <a:off x="1146240" y="1268280"/>
              <a:ext cx="3743280" cy="4232160"/>
            </a:xfrm>
            <a:custGeom>
              <a:avLst/>
              <a:gdLst>
                <a:gd name="textAreaLeft" fmla="*/ 32040 w 3743280"/>
                <a:gd name="textAreaRight" fmla="*/ 3711240 w 3743280"/>
                <a:gd name="textAreaTop" fmla="*/ 32040 h 4232160"/>
                <a:gd name="textAreaBottom" fmla="*/ 4200120 h 4232160"/>
              </a:gdLst>
              <a:ahLst/>
              <a:rect l="textAreaLeft" t="textAreaTop" r="textAreaRight" b="textAreaBottom"/>
              <a:pathLst>
                <a:path w="21600" h="24421">
                  <a:moveTo>
                    <a:pt x="638" y="0"/>
                  </a:moveTo>
                  <a:arcTo wR="638" hR="638" stAng="16200000" swAng="-5400000"/>
                  <a:lnTo>
                    <a:pt x="0" y="23783"/>
                  </a:lnTo>
                  <a:arcTo wR="638" hR="638" stAng="10800000" swAng="-5400000"/>
                  <a:lnTo>
                    <a:pt x="20962" y="24421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3a00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7280" y="1311120"/>
              <a:ext cx="3623760" cy="38592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56840" y="2082600"/>
              <a:ext cx="3319560" cy="3218040"/>
            </a:xfrm>
            <a:prstGeom prst="roundRect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3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504800" y="1484280"/>
            <a:ext cx="3025800" cy="447840"/>
            <a:chOff x="1504800" y="1484280"/>
            <a:chExt cx="3025800" cy="447840"/>
          </a:xfrm>
        </p:grpSpPr>
        <p:sp>
          <p:nvSpPr>
            <p:cNvPr id="212" name=""/>
            <p:cNvSpPr/>
            <p:nvPr/>
          </p:nvSpPr>
          <p:spPr>
            <a:xfrm>
              <a:off x="1504800" y="1484280"/>
              <a:ext cx="3025800" cy="44784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3a0004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33600" y="1517400"/>
              <a:ext cx="2962440" cy="1836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178600" y="2346480"/>
            <a:ext cx="3714480" cy="288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80160" y="1916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78600" y="2419200"/>
            <a:ext cx="36734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78600" y="3427560"/>
            <a:ext cx="36734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93080" y="60930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22560" y="3859200"/>
            <a:ext cx="6480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22560" y="4579920"/>
            <a:ext cx="6480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22560" y="4941720"/>
            <a:ext cx="6480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22560" y="4221000"/>
            <a:ext cx="6480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2560" y="3502080"/>
            <a:ext cx="6480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22560" y="3141720"/>
            <a:ext cx="6480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2560" y="2781360"/>
            <a:ext cx="6480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122560" y="2421000"/>
            <a:ext cx="6480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22560" y="2062080"/>
            <a:ext cx="6480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122560" y="1701720"/>
            <a:ext cx="6480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2128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1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200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2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6128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3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8200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4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0092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5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2164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6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4092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7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6164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8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07444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9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230560" y="4579920"/>
            <a:ext cx="503280" cy="720720"/>
            <a:chOff x="2230560" y="4579920"/>
            <a:chExt cx="503280" cy="720720"/>
          </a:xfrm>
        </p:grpSpPr>
        <p:sp>
          <p:nvSpPr>
            <p:cNvPr id="240" name=""/>
            <p:cNvSpPr/>
            <p:nvPr/>
          </p:nvSpPr>
          <p:spPr>
            <a:xfrm>
              <a:off x="2230560" y="4579920"/>
              <a:ext cx="503280" cy="72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720720"/>
                <a:gd name="textAreaBottom" fmla="*/ 701640 h 720720"/>
              </a:gdLst>
              <a:ahLst/>
              <a:rect l="textAreaLeft" t="textAreaTop" r="textAreaRight" b="textAreaBottom"/>
              <a:pathLst>
                <a:path w="21600" h="30926">
                  <a:moveTo>
                    <a:pt x="2814" y="0"/>
                  </a:moveTo>
                  <a:arcTo wR="2814" hR="2814" stAng="16200000" swAng="-5400000"/>
                  <a:lnTo>
                    <a:pt x="0" y="28112"/>
                  </a:lnTo>
                  <a:arcTo wR="2814" hR="2814" stAng="10800000" swAng="-5400000"/>
                  <a:lnTo>
                    <a:pt x="18786" y="30926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66920" y="461628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951280" y="4219560"/>
            <a:ext cx="503280" cy="1081080"/>
            <a:chOff x="2951280" y="4219560"/>
            <a:chExt cx="503280" cy="1081080"/>
          </a:xfrm>
        </p:grpSpPr>
        <p:sp>
          <p:nvSpPr>
            <p:cNvPr id="243" name=""/>
            <p:cNvSpPr/>
            <p:nvPr/>
          </p:nvSpPr>
          <p:spPr>
            <a:xfrm>
              <a:off x="2951280" y="4219560"/>
              <a:ext cx="503280" cy="108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081080"/>
                <a:gd name="textAreaBottom" fmla="*/ 1062000 h 1081080"/>
              </a:gdLst>
              <a:ahLst/>
              <a:rect l="textAreaLeft" t="textAreaTop" r="textAreaRight" b="textAreaBottom"/>
              <a:pathLst>
                <a:path w="21600" h="46381">
                  <a:moveTo>
                    <a:pt x="2814" y="0"/>
                  </a:moveTo>
                  <a:arcTo wR="2814" hR="2814" stAng="16200000" swAng="-5400000"/>
                  <a:lnTo>
                    <a:pt x="0" y="43567"/>
                  </a:lnTo>
                  <a:arcTo wR="2814" hR="2814" stAng="10800000" swAng="-5400000"/>
                  <a:lnTo>
                    <a:pt x="18786" y="46381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86200" y="425592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670200" y="3860640"/>
            <a:ext cx="503280" cy="1440000"/>
            <a:chOff x="3670200" y="3860640"/>
            <a:chExt cx="503280" cy="1440000"/>
          </a:xfrm>
        </p:grpSpPr>
        <p:sp>
          <p:nvSpPr>
            <p:cNvPr id="246" name=""/>
            <p:cNvSpPr/>
            <p:nvPr/>
          </p:nvSpPr>
          <p:spPr>
            <a:xfrm>
              <a:off x="3670200" y="3860640"/>
              <a:ext cx="503280" cy="144000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440000"/>
                <a:gd name="textAreaBottom" fmla="*/ 1420920 h 1440000"/>
              </a:gdLst>
              <a:ahLst/>
              <a:rect l="textAreaLeft" t="textAreaTop" r="textAreaRight" b="textAreaBottom"/>
              <a:pathLst>
                <a:path w="21600" h="61774">
                  <a:moveTo>
                    <a:pt x="2814" y="0"/>
                  </a:moveTo>
                  <a:arcTo wR="2814" hR="2814" stAng="16200000" swAng="-5400000"/>
                  <a:lnTo>
                    <a:pt x="0" y="58960"/>
                  </a:lnTo>
                  <a:arcTo wR="2814" hR="2814" stAng="10800000" swAng="-5400000"/>
                  <a:lnTo>
                    <a:pt x="18786" y="6177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06560" y="389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389480" y="3500280"/>
            <a:ext cx="503280" cy="1800360"/>
            <a:chOff x="4389480" y="3500280"/>
            <a:chExt cx="503280" cy="1800360"/>
          </a:xfrm>
        </p:grpSpPr>
        <p:sp>
          <p:nvSpPr>
            <p:cNvPr id="249" name=""/>
            <p:cNvSpPr/>
            <p:nvPr/>
          </p:nvSpPr>
          <p:spPr>
            <a:xfrm>
              <a:off x="4389480" y="3500280"/>
              <a:ext cx="503280" cy="180036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800360"/>
                <a:gd name="textAreaBottom" fmla="*/ 1781280 h 1800360"/>
              </a:gdLst>
              <a:ahLst/>
              <a:rect l="textAreaLeft" t="textAreaTop" r="textAreaRight" b="textAreaBottom"/>
              <a:pathLst>
                <a:path w="21600" h="77229">
                  <a:moveTo>
                    <a:pt x="2814" y="0"/>
                  </a:moveTo>
                  <a:arcTo wR="2814" hR="2814" stAng="16200000" swAng="-5400000"/>
                  <a:lnTo>
                    <a:pt x="0" y="74415"/>
                  </a:lnTo>
                  <a:arcTo wR="2814" hR="2814" stAng="10800000" swAng="-5400000"/>
                  <a:lnTo>
                    <a:pt x="18786" y="7722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25840" y="353520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830920" y="2779560"/>
            <a:ext cx="503280" cy="2521080"/>
            <a:chOff x="5830920" y="2779560"/>
            <a:chExt cx="503280" cy="2521080"/>
          </a:xfrm>
        </p:grpSpPr>
        <p:sp>
          <p:nvSpPr>
            <p:cNvPr id="252" name=""/>
            <p:cNvSpPr/>
            <p:nvPr/>
          </p:nvSpPr>
          <p:spPr>
            <a:xfrm>
              <a:off x="5830920" y="2779560"/>
              <a:ext cx="503280" cy="252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521080"/>
                <a:gd name="textAreaBottom" fmla="*/ 2502000 h 2521080"/>
              </a:gdLst>
              <a:ahLst/>
              <a:rect l="textAreaLeft" t="textAreaTop" r="textAreaRight" b="textAreaBottom"/>
              <a:pathLst>
                <a:path w="21600" h="108139">
                  <a:moveTo>
                    <a:pt x="2814" y="0"/>
                  </a:moveTo>
                  <a:arcTo wR="2814" hR="2814" stAng="16200000" swAng="-5400000"/>
                  <a:lnTo>
                    <a:pt x="0" y="105325"/>
                  </a:lnTo>
                  <a:arcTo wR="2814" hR="2814" stAng="10800000" swAng="-5400000"/>
                  <a:lnTo>
                    <a:pt x="18786" y="10813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867280" y="281592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550200" y="2419200"/>
            <a:ext cx="502920" cy="2881440"/>
            <a:chOff x="6550200" y="2419200"/>
            <a:chExt cx="502920" cy="2881440"/>
          </a:xfrm>
        </p:grpSpPr>
        <p:sp>
          <p:nvSpPr>
            <p:cNvPr id="255" name=""/>
            <p:cNvSpPr/>
            <p:nvPr/>
          </p:nvSpPr>
          <p:spPr>
            <a:xfrm>
              <a:off x="6550200" y="2419200"/>
              <a:ext cx="502920" cy="2881440"/>
            </a:xfrm>
            <a:custGeom>
              <a:avLst/>
              <a:gdLst>
                <a:gd name="textAreaLeft" fmla="*/ 19080 w 502920"/>
                <a:gd name="textAreaRight" fmla="*/ 483840 w 502920"/>
                <a:gd name="textAreaTop" fmla="*/ 19080 h 2881440"/>
                <a:gd name="textAreaBottom" fmla="*/ 2862360 h 2881440"/>
              </a:gdLst>
              <a:ahLst/>
              <a:rect l="textAreaLeft" t="textAreaTop" r="textAreaRight" b="textAreaBottom"/>
              <a:pathLst>
                <a:path w="21600" h="123682">
                  <a:moveTo>
                    <a:pt x="2814" y="0"/>
                  </a:moveTo>
                  <a:arcTo wR="2814" hR="2814" stAng="16200000" swAng="-5400000"/>
                  <a:lnTo>
                    <a:pt x="0" y="120868"/>
                  </a:lnTo>
                  <a:arcTo wR="2814" hR="2814" stAng="10800000" swAng="-5400000"/>
                  <a:lnTo>
                    <a:pt x="18786" y="123682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86200" y="245556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270920" y="2060640"/>
            <a:ext cx="502920" cy="3240000"/>
            <a:chOff x="7270920" y="2060640"/>
            <a:chExt cx="502920" cy="3240000"/>
          </a:xfrm>
        </p:grpSpPr>
        <p:sp>
          <p:nvSpPr>
            <p:cNvPr id="258" name=""/>
            <p:cNvSpPr/>
            <p:nvPr/>
          </p:nvSpPr>
          <p:spPr>
            <a:xfrm>
              <a:off x="7270920" y="2060640"/>
              <a:ext cx="502920" cy="3240000"/>
            </a:xfrm>
            <a:custGeom>
              <a:avLst/>
              <a:gdLst>
                <a:gd name="textAreaLeft" fmla="*/ 19080 w 502920"/>
                <a:gd name="textAreaRight" fmla="*/ 483840 w 502920"/>
                <a:gd name="textAreaTop" fmla="*/ 19080 h 3240000"/>
                <a:gd name="textAreaBottom" fmla="*/ 3220920 h 3240000"/>
              </a:gdLst>
              <a:ahLst/>
              <a:rect l="textAreaLeft" t="textAreaTop" r="textAreaRight" b="textAreaBottom"/>
              <a:pathLst>
                <a:path w="21600" h="139071">
                  <a:moveTo>
                    <a:pt x="2814" y="0"/>
                  </a:moveTo>
                  <a:arcTo wR="2814" hR="2814" stAng="16200000" swAng="-5400000"/>
                  <a:lnTo>
                    <a:pt x="0" y="136257"/>
                  </a:lnTo>
                  <a:arcTo wR="2814" hR="2814" stAng="10800000" swAng="-5400000"/>
                  <a:lnTo>
                    <a:pt x="18786" y="139071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06920" y="209556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7989840" y="1700280"/>
            <a:ext cx="503280" cy="3600360"/>
            <a:chOff x="7989840" y="1700280"/>
            <a:chExt cx="503280" cy="3600360"/>
          </a:xfrm>
        </p:grpSpPr>
        <p:sp>
          <p:nvSpPr>
            <p:cNvPr id="261" name=""/>
            <p:cNvSpPr/>
            <p:nvPr/>
          </p:nvSpPr>
          <p:spPr>
            <a:xfrm>
              <a:off x="7989840" y="1700280"/>
              <a:ext cx="503280" cy="360036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3600360"/>
                <a:gd name="textAreaBottom" fmla="*/ 3581280 h 3600360"/>
              </a:gdLst>
              <a:ahLst/>
              <a:rect l="textAreaLeft" t="textAreaTop" r="textAreaRight" b="textAreaBottom"/>
              <a:pathLst>
                <a:path w="21600" h="154427">
                  <a:moveTo>
                    <a:pt x="2814" y="0"/>
                  </a:moveTo>
                  <a:arcTo wR="2814" hR="2814" stAng="16200000" swAng="-5400000"/>
                  <a:lnTo>
                    <a:pt x="0" y="151613"/>
                  </a:lnTo>
                  <a:arcTo wR="2814" hR="2814" stAng="10800000" swAng="-5400000"/>
                  <a:lnTo>
                    <a:pt x="18786" y="154427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3a00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026200" y="173520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031240" y="1989360"/>
              <a:ext cx="401400" cy="32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单击此处添加文字</a:t>
              </a: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内容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未知"/>
          <p:cNvSpPr/>
          <p:nvPr/>
        </p:nvSpPr>
        <p:spPr>
          <a:xfrm>
            <a:off x="2122560" y="1482840"/>
            <a:ext cx="6769080" cy="381780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3333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60000" y="16732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60000" y="498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60000" y="461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60000" y="4249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60000" y="3881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60000" y="3513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60000" y="3144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60000" y="2776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60000" y="2408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60000" y="2039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110200" y="3139920"/>
            <a:ext cx="503280" cy="2160720"/>
            <a:chOff x="5110200" y="3139920"/>
            <a:chExt cx="503280" cy="2160720"/>
          </a:xfrm>
        </p:grpSpPr>
        <p:sp>
          <p:nvSpPr>
            <p:cNvPr id="276" name=""/>
            <p:cNvSpPr/>
            <p:nvPr/>
          </p:nvSpPr>
          <p:spPr>
            <a:xfrm>
              <a:off x="5110200" y="3139920"/>
              <a:ext cx="503280" cy="216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160720"/>
                <a:gd name="textAreaBottom" fmla="*/ 2141640 h 2160720"/>
              </a:gdLst>
              <a:ahLst/>
              <a:rect l="textAreaLeft" t="textAreaTop" r="textAreaRight" b="textAreaBottom"/>
              <a:pathLst>
                <a:path w="21600" h="92684">
                  <a:moveTo>
                    <a:pt x="2814" y="0"/>
                  </a:moveTo>
                  <a:arcTo wR="2814" hR="2814" stAng="16200000" swAng="-5400000"/>
                  <a:lnTo>
                    <a:pt x="0" y="89870"/>
                  </a:lnTo>
                  <a:arcTo wR="2814" hR="2814" stAng="10800000" swAng="-5400000"/>
                  <a:lnTo>
                    <a:pt x="18786" y="9268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46560" y="317628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49800" y="3357360"/>
              <a:ext cx="3920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a0004"/>
                  </a:solidFill>
                  <a:latin typeface="Arial"/>
                </a:rPr>
                <a:t>单击添加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7873200">
            <a:off x="1858320" y="2298240"/>
            <a:ext cx="2628360" cy="26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3a0004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3306600">
            <a:off x="2149920" y="2079720"/>
            <a:ext cx="2628360" cy="26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3a0004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1977800">
            <a:off x="1681200" y="2138400"/>
            <a:ext cx="2624760" cy="26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689120" y="1773360"/>
            <a:ext cx="3022200" cy="3022200"/>
            <a:chOff x="1689120" y="1773360"/>
            <a:chExt cx="3022200" cy="3022200"/>
          </a:xfrm>
        </p:grpSpPr>
        <p:sp>
          <p:nvSpPr>
            <p:cNvPr id="284" name=""/>
            <p:cNvSpPr/>
            <p:nvPr/>
          </p:nvSpPr>
          <p:spPr>
            <a:xfrm flipH="1">
              <a:off x="2176560" y="1773360"/>
              <a:ext cx="1072440" cy="302220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49360" y="1773360"/>
              <a:ext cx="975600" cy="3022200"/>
            </a:xfrm>
            <a:prstGeom prst="line">
              <a:avLst/>
            </a:prstGeom>
            <a:ln w="38160">
              <a:solidFill>
                <a:srgbClr val="3a00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176920" y="2942640"/>
              <a:ext cx="2534400" cy="185292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89120" y="2942640"/>
              <a:ext cx="2536200" cy="1852920"/>
            </a:xfrm>
            <a:prstGeom prst="line">
              <a:avLst/>
            </a:prstGeom>
            <a:ln w="38160">
              <a:solidFill>
                <a:srgbClr val="3a00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89120" y="2942640"/>
              <a:ext cx="2990160" cy="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 rot="16542000">
            <a:off x="1661040" y="1680480"/>
            <a:ext cx="2628360" cy="26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32040" y="5138640"/>
            <a:ext cx="1152720" cy="451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573720" y="4106880"/>
            <a:ext cx="1280520" cy="1325880"/>
            <a:chOff x="3573720" y="4106880"/>
            <a:chExt cx="1280520" cy="1325880"/>
          </a:xfrm>
        </p:grpSpPr>
        <p:grpSp>
          <p:nvGrpSpPr>
            <p:cNvPr id="292" name=""/>
            <p:cNvGrpSpPr/>
            <p:nvPr/>
          </p:nvGrpSpPr>
          <p:grpSpPr>
            <a:xfrm>
              <a:off x="3588840" y="4106880"/>
              <a:ext cx="1265400" cy="1247760"/>
              <a:chOff x="3588840" y="4106880"/>
              <a:chExt cx="1265400" cy="1247760"/>
            </a:xfrm>
          </p:grpSpPr>
          <p:pic>
            <p:nvPicPr>
              <p:cNvPr id="29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8840" y="4106880"/>
                <a:ext cx="1265400" cy="12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"/>
              <p:cNvSpPr/>
              <p:nvPr/>
            </p:nvSpPr>
            <p:spPr>
              <a:xfrm>
                <a:off x="3588840" y="4106880"/>
                <a:ext cx="1256760" cy="1247760"/>
              </a:xfrm>
              <a:prstGeom prst="ellipse">
                <a:avLst/>
              </a:prstGeom>
              <a:gradFill rotWithShape="0">
                <a:gsLst>
                  <a:gs pos="0">
                    <a:srgbClr val="153b8f"/>
                  </a:gs>
                  <a:gs pos="100000">
                    <a:srgbClr val="1967b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Arial"/>
                  </a:rPr>
                  <a:t>单击此处</a:t>
                </a: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Arial"/>
                  </a:rPr>
                  <a:t>添加文字</a:t>
                </a: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5" name="" descr=""/>
            <p:cNvPicPr/>
            <p:nvPr/>
          </p:nvPicPr>
          <p:blipFill>
            <a:blip r:embed="rId2"/>
            <a:stretch/>
          </p:blipFill>
          <p:spPr>
            <a:xfrm>
              <a:off x="3715920" y="4119480"/>
              <a:ext cx="998640" cy="43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6" name=""/>
            <p:cNvGrpSpPr/>
            <p:nvPr/>
          </p:nvGrpSpPr>
          <p:grpSpPr>
            <a:xfrm>
              <a:off x="3573720" y="4922640"/>
              <a:ext cx="1280160" cy="510120"/>
              <a:chOff x="3573720" y="4922640"/>
              <a:chExt cx="1280160" cy="51012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3798000" y="4922640"/>
                <a:ext cx="1055880" cy="480600"/>
                <a:chOff x="3798000" y="4922640"/>
                <a:chExt cx="1055880" cy="480600"/>
              </a:xfrm>
            </p:grpSpPr>
            <p:sp>
              <p:nvSpPr>
                <p:cNvPr id="298" name=""/>
                <p:cNvSpPr/>
                <p:nvPr/>
              </p:nvSpPr>
              <p:spPr>
                <a:xfrm flipH="1" flipV="1" rot="3964800">
                  <a:off x="4372560" y="4779000"/>
                  <a:ext cx="185400" cy="76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 flipV="1" rot="4780200">
                  <a:off x="4254120" y="4826520"/>
                  <a:ext cx="185400" cy="76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 flipV="1" rot="5076000">
                  <a:off x="4181400" y="4836240"/>
                  <a:ext cx="185400" cy="76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 flipV="1" rot="5608200">
                  <a:off x="4093560" y="4844520"/>
                  <a:ext cx="185400" cy="76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573720" y="4928760"/>
                <a:ext cx="1054440" cy="504000"/>
                <a:chOff x="3573720" y="4928760"/>
                <a:chExt cx="1054440" cy="504000"/>
              </a:xfrm>
            </p:grpSpPr>
            <p:sp>
              <p:nvSpPr>
                <p:cNvPr id="303" name=""/>
                <p:cNvSpPr/>
                <p:nvPr/>
              </p:nvSpPr>
              <p:spPr>
                <a:xfrm flipH="1" flipV="1" rot="5317800">
                  <a:off x="4148640" y="4844880"/>
                  <a:ext cx="186120" cy="76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 flipV="1" rot="6133800">
                  <a:off x="4021560" y="4843080"/>
                  <a:ext cx="186120" cy="76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 flipV="1" rot="6429000">
                  <a:off x="3949920" y="4822200"/>
                  <a:ext cx="186120" cy="76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 flipV="1" rot="6961200">
                  <a:off x="3866040" y="4796640"/>
                  <a:ext cx="186120" cy="76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7" name=""/>
          <p:cNvGrpSpPr/>
          <p:nvPr/>
        </p:nvGrpSpPr>
        <p:grpSpPr>
          <a:xfrm>
            <a:off x="1689120" y="4240080"/>
            <a:ext cx="1006560" cy="1015560"/>
            <a:chOff x="1689120" y="4240080"/>
            <a:chExt cx="1006560" cy="1015560"/>
          </a:xfrm>
        </p:grpSpPr>
        <p:grpSp>
          <p:nvGrpSpPr>
            <p:cNvPr id="308" name=""/>
            <p:cNvGrpSpPr/>
            <p:nvPr/>
          </p:nvGrpSpPr>
          <p:grpSpPr>
            <a:xfrm>
              <a:off x="1689120" y="4240080"/>
              <a:ext cx="1006560" cy="989280"/>
              <a:chOff x="1689120" y="4240080"/>
              <a:chExt cx="1006560" cy="98928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1689120" y="4240080"/>
                <a:ext cx="1006560" cy="989280"/>
                <a:chOff x="1689120" y="4240080"/>
                <a:chExt cx="1006560" cy="989280"/>
              </a:xfrm>
            </p:grpSpPr>
            <p:pic>
              <p:nvPicPr>
                <p:cNvPr id="3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689120" y="4240080"/>
                  <a:ext cx="100656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1" name=""/>
                <p:cNvSpPr/>
                <p:nvPr/>
              </p:nvSpPr>
              <p:spPr>
                <a:xfrm>
                  <a:off x="1689120" y="4240080"/>
                  <a:ext cx="99972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789560" y="4249440"/>
                <a:ext cx="794880" cy="349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3" name=""/>
            <p:cNvGrpSpPr/>
            <p:nvPr/>
          </p:nvGrpSpPr>
          <p:grpSpPr>
            <a:xfrm>
              <a:off x="1749600" y="4907520"/>
              <a:ext cx="874080" cy="348120"/>
              <a:chOff x="1749600" y="4907520"/>
              <a:chExt cx="874080" cy="34812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1901520" y="4907520"/>
                <a:ext cx="722160" cy="327600"/>
                <a:chOff x="1901520" y="4907520"/>
                <a:chExt cx="722160" cy="327600"/>
              </a:xfrm>
            </p:grpSpPr>
            <p:sp>
              <p:nvSpPr>
                <p:cNvPr id="315" name=""/>
                <p:cNvSpPr/>
                <p:nvPr/>
              </p:nvSpPr>
              <p:spPr>
                <a:xfrm flipH="1" flipV="1" rot="3964800">
                  <a:off x="2295000" y="480888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 rot="4780200">
                  <a:off x="2213280" y="4840560"/>
                  <a:ext cx="126360" cy="5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 flipV="1" rot="5076000">
                  <a:off x="2163600" y="4848120"/>
                  <a:ext cx="126360" cy="5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 flipV="1" rot="5608200">
                  <a:off x="2103480" y="485316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1749600" y="4912560"/>
                <a:ext cx="719280" cy="343080"/>
                <a:chOff x="1749600" y="4912560"/>
                <a:chExt cx="719280" cy="343080"/>
              </a:xfrm>
            </p:grpSpPr>
            <p:sp>
              <p:nvSpPr>
                <p:cNvPr id="320" name=""/>
                <p:cNvSpPr/>
                <p:nvPr/>
              </p:nvSpPr>
              <p:spPr>
                <a:xfrm flipH="1" flipV="1" rot="5317800">
                  <a:off x="2142360" y="4854240"/>
                  <a:ext cx="126720" cy="5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 flipV="1" rot="6133800">
                  <a:off x="2054880" y="4853160"/>
                  <a:ext cx="126720" cy="5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 rot="6429000">
                  <a:off x="2006280" y="4839840"/>
                  <a:ext cx="126720" cy="5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 flipV="1" rot="6961200">
                  <a:off x="1949040" y="4822560"/>
                  <a:ext cx="126720" cy="5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4" name=""/>
          <p:cNvGrpSpPr/>
          <p:nvPr/>
        </p:nvGrpSpPr>
        <p:grpSpPr>
          <a:xfrm>
            <a:off x="1184400" y="2440080"/>
            <a:ext cx="1006200" cy="1015560"/>
            <a:chOff x="1184400" y="2440080"/>
            <a:chExt cx="1006200" cy="1015560"/>
          </a:xfrm>
        </p:grpSpPr>
        <p:grpSp>
          <p:nvGrpSpPr>
            <p:cNvPr id="325" name=""/>
            <p:cNvGrpSpPr/>
            <p:nvPr/>
          </p:nvGrpSpPr>
          <p:grpSpPr>
            <a:xfrm>
              <a:off x="1184400" y="2440080"/>
              <a:ext cx="1006200" cy="988920"/>
              <a:chOff x="1184400" y="2440080"/>
              <a:chExt cx="1006200" cy="9889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1184400" y="2440080"/>
                <a:ext cx="1006200" cy="988920"/>
                <a:chOff x="1184400" y="2440080"/>
                <a:chExt cx="1006200" cy="988920"/>
              </a:xfrm>
            </p:grpSpPr>
            <p:pic>
              <p:nvPicPr>
                <p:cNvPr id="32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84400" y="2440080"/>
                  <a:ext cx="1006200" cy="98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8" name=""/>
                <p:cNvSpPr/>
                <p:nvPr/>
              </p:nvSpPr>
              <p:spPr>
                <a:xfrm>
                  <a:off x="1184400" y="2440080"/>
                  <a:ext cx="9993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284840" y="2449440"/>
                <a:ext cx="79452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0" name=""/>
            <p:cNvGrpSpPr/>
            <p:nvPr/>
          </p:nvGrpSpPr>
          <p:grpSpPr>
            <a:xfrm>
              <a:off x="1244880" y="3107880"/>
              <a:ext cx="873360" cy="347760"/>
              <a:chOff x="1244880" y="3107880"/>
              <a:chExt cx="873360" cy="34776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1396800" y="3107880"/>
                <a:ext cx="721440" cy="327240"/>
                <a:chOff x="1396800" y="3107880"/>
                <a:chExt cx="721440" cy="327240"/>
              </a:xfrm>
            </p:grpSpPr>
            <p:sp>
              <p:nvSpPr>
                <p:cNvPr id="332" name=""/>
                <p:cNvSpPr/>
                <p:nvPr/>
              </p:nvSpPr>
              <p:spPr>
                <a:xfrm flipH="1" flipV="1" rot="3964800">
                  <a:off x="1789920" y="3009240"/>
                  <a:ext cx="126360" cy="5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 flipV="1" rot="4780200">
                  <a:off x="1707840" y="3040920"/>
                  <a:ext cx="126360" cy="5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H="1" flipV="1" rot="5076000">
                  <a:off x="1658520" y="3048480"/>
                  <a:ext cx="126360" cy="5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 flipV="1" rot="5608200">
                  <a:off x="1598040" y="3053520"/>
                  <a:ext cx="126360" cy="5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1244880" y="3112560"/>
                <a:ext cx="719280" cy="343080"/>
                <a:chOff x="1244880" y="3112560"/>
                <a:chExt cx="719280" cy="343080"/>
              </a:xfrm>
            </p:grpSpPr>
            <p:sp>
              <p:nvSpPr>
                <p:cNvPr id="337" name=""/>
                <p:cNvSpPr/>
                <p:nvPr/>
              </p:nvSpPr>
              <p:spPr>
                <a:xfrm flipH="1" flipV="1" rot="5317800">
                  <a:off x="1637640" y="3054240"/>
                  <a:ext cx="126720" cy="5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 flipV="1" rot="6133800">
                  <a:off x="1550160" y="3053160"/>
                  <a:ext cx="126720" cy="5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 flipV="1" rot="6429000">
                  <a:off x="1501560" y="3039840"/>
                  <a:ext cx="126720" cy="5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 flipV="1" rot="6961200">
                  <a:off x="1444320" y="3022560"/>
                  <a:ext cx="126720" cy="5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1" name=""/>
          <p:cNvGrpSpPr/>
          <p:nvPr/>
        </p:nvGrpSpPr>
        <p:grpSpPr>
          <a:xfrm>
            <a:off x="4206960" y="2421000"/>
            <a:ext cx="1009440" cy="1016280"/>
            <a:chOff x="4206960" y="2421000"/>
            <a:chExt cx="1009440" cy="1016280"/>
          </a:xfrm>
        </p:grpSpPr>
        <p:grpSp>
          <p:nvGrpSpPr>
            <p:cNvPr id="342" name=""/>
            <p:cNvGrpSpPr/>
            <p:nvPr/>
          </p:nvGrpSpPr>
          <p:grpSpPr>
            <a:xfrm>
              <a:off x="4206960" y="2421000"/>
              <a:ext cx="1009440" cy="988920"/>
              <a:chOff x="4206960" y="2421000"/>
              <a:chExt cx="1009440" cy="98892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4206960" y="2421000"/>
                <a:ext cx="1009440" cy="988920"/>
                <a:chOff x="4206960" y="2421000"/>
                <a:chExt cx="1009440" cy="98892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206960" y="2421000"/>
                  <a:ext cx="1009440" cy="98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4206960" y="2421000"/>
                  <a:ext cx="100260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4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07760" y="2430360"/>
                <a:ext cx="79704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7" name=""/>
            <p:cNvGrpSpPr/>
            <p:nvPr/>
          </p:nvGrpSpPr>
          <p:grpSpPr>
            <a:xfrm>
              <a:off x="4267440" y="3088440"/>
              <a:ext cx="875880" cy="348840"/>
              <a:chOff x="4267440" y="3088440"/>
              <a:chExt cx="875880" cy="34884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4420080" y="3088440"/>
                <a:ext cx="723240" cy="327960"/>
                <a:chOff x="4420080" y="3088440"/>
                <a:chExt cx="723240" cy="327960"/>
              </a:xfrm>
            </p:grpSpPr>
            <p:sp>
              <p:nvSpPr>
                <p:cNvPr id="349" name=""/>
                <p:cNvSpPr/>
                <p:nvPr/>
              </p:nvSpPr>
              <p:spPr>
                <a:xfrm flipH="1" flipV="1" rot="3964800">
                  <a:off x="4814280" y="2989440"/>
                  <a:ext cx="12636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flipV="1" rot="4780200">
                  <a:off x="4732200" y="3021120"/>
                  <a:ext cx="126360" cy="52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 rot="5076000">
                  <a:off x="4682520" y="3027600"/>
                  <a:ext cx="126360" cy="52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 flipV="1" rot="5608200">
                  <a:off x="4622400" y="3033720"/>
                  <a:ext cx="126360" cy="525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4267440" y="3093120"/>
                <a:ext cx="722160" cy="344160"/>
                <a:chOff x="4267440" y="3093120"/>
                <a:chExt cx="722160" cy="344160"/>
              </a:xfrm>
            </p:grpSpPr>
            <p:sp>
              <p:nvSpPr>
                <p:cNvPr id="354" name=""/>
                <p:cNvSpPr/>
                <p:nvPr/>
              </p:nvSpPr>
              <p:spPr>
                <a:xfrm flipH="1" flipV="1" rot="5317800">
                  <a:off x="4661640" y="3034440"/>
                  <a:ext cx="12672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 flipV="1" rot="6133800">
                  <a:off x="4573800" y="3032640"/>
                  <a:ext cx="126720" cy="52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H="1" flipV="1" rot="6429000">
                  <a:off x="4525200" y="3019320"/>
                  <a:ext cx="126720" cy="52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H="1" flipV="1" rot="6961200">
                  <a:off x="4467600" y="3001680"/>
                  <a:ext cx="126720" cy="52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8" name=""/>
          <p:cNvGrpSpPr/>
          <p:nvPr/>
        </p:nvGrpSpPr>
        <p:grpSpPr>
          <a:xfrm>
            <a:off x="2695680" y="1268280"/>
            <a:ext cx="1009440" cy="1016280"/>
            <a:chOff x="2695680" y="1268280"/>
            <a:chExt cx="1009440" cy="1016280"/>
          </a:xfrm>
        </p:grpSpPr>
        <p:grpSp>
          <p:nvGrpSpPr>
            <p:cNvPr id="359" name=""/>
            <p:cNvGrpSpPr/>
            <p:nvPr/>
          </p:nvGrpSpPr>
          <p:grpSpPr>
            <a:xfrm>
              <a:off x="2695680" y="1268280"/>
              <a:ext cx="1009440" cy="989280"/>
              <a:chOff x="2695680" y="1268280"/>
              <a:chExt cx="1009440" cy="98928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2695680" y="1268280"/>
                <a:ext cx="1009440" cy="989280"/>
                <a:chOff x="2695680" y="1268280"/>
                <a:chExt cx="1009440" cy="989280"/>
              </a:xfrm>
            </p:grpSpPr>
            <p:pic>
              <p:nvPicPr>
                <p:cNvPr id="36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695680" y="1268280"/>
                  <a:ext cx="100944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2" name=""/>
                <p:cNvSpPr/>
                <p:nvPr/>
              </p:nvSpPr>
              <p:spPr>
                <a:xfrm>
                  <a:off x="2695680" y="1268280"/>
                  <a:ext cx="100260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6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796480" y="1277640"/>
                <a:ext cx="797040" cy="349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4" name=""/>
            <p:cNvGrpSpPr/>
            <p:nvPr/>
          </p:nvGrpSpPr>
          <p:grpSpPr>
            <a:xfrm>
              <a:off x="2756160" y="1935720"/>
              <a:ext cx="875880" cy="348840"/>
              <a:chOff x="2756160" y="1935720"/>
              <a:chExt cx="875880" cy="34884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2908800" y="1935720"/>
                <a:ext cx="723240" cy="327960"/>
                <a:chOff x="2908800" y="1935720"/>
                <a:chExt cx="723240" cy="327960"/>
              </a:xfrm>
            </p:grpSpPr>
            <p:sp>
              <p:nvSpPr>
                <p:cNvPr id="366" name=""/>
                <p:cNvSpPr/>
                <p:nvPr/>
              </p:nvSpPr>
              <p:spPr>
                <a:xfrm flipH="1" flipV="1" rot="3964800">
                  <a:off x="3303000" y="1836720"/>
                  <a:ext cx="12636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 flipV="1" rot="4780200">
                  <a:off x="3220920" y="1868400"/>
                  <a:ext cx="126360" cy="52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 flipV="1" rot="5076000">
                  <a:off x="3171240" y="1874880"/>
                  <a:ext cx="126360" cy="52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H="1" flipV="1" rot="5608200">
                  <a:off x="3111120" y="1881000"/>
                  <a:ext cx="126360" cy="525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2756160" y="1940400"/>
                <a:ext cx="722160" cy="344160"/>
                <a:chOff x="2756160" y="1940400"/>
                <a:chExt cx="722160" cy="344160"/>
              </a:xfrm>
            </p:grpSpPr>
            <p:sp>
              <p:nvSpPr>
                <p:cNvPr id="371" name=""/>
                <p:cNvSpPr/>
                <p:nvPr/>
              </p:nvSpPr>
              <p:spPr>
                <a:xfrm flipH="1" flipV="1" rot="5317800">
                  <a:off x="3150360" y="1881720"/>
                  <a:ext cx="12672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 flipV="1" rot="6133800">
                  <a:off x="3062520" y="1879920"/>
                  <a:ext cx="126720" cy="52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 flipV="1" rot="6429000">
                  <a:off x="3013920" y="1866600"/>
                  <a:ext cx="126720" cy="52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 flipV="1" rot="6961200">
                  <a:off x="2956320" y="1848960"/>
                  <a:ext cx="126720" cy="52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5" name=""/>
          <p:cNvSpPr/>
          <p:nvPr/>
        </p:nvSpPr>
        <p:spPr>
          <a:xfrm rot="21229800">
            <a:off x="2095560" y="1674720"/>
            <a:ext cx="2631600" cy="26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70040" y="5229360"/>
            <a:ext cx="895320" cy="36036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718240" y="2073240"/>
            <a:ext cx="2959200" cy="3084480"/>
          </a:xfrm>
          <a:custGeom>
            <a:avLst/>
            <a:gdLst>
              <a:gd name="textAreaLeft" fmla="*/ 25560 w 2959200"/>
              <a:gd name="textAreaRight" fmla="*/ 2933640 w 2959200"/>
              <a:gd name="textAreaTop" fmla="*/ 25560 h 3084480"/>
              <a:gd name="textAreaBottom" fmla="*/ 3058920 h 3084480"/>
            </a:gdLst>
            <a:ahLst/>
            <a:rect l="textAreaLeft" t="textAreaTop" r="textAreaRight" b="textAreaBottom"/>
            <a:pathLst>
              <a:path w="21600" h="22514">
                <a:moveTo>
                  <a:pt x="638" y="0"/>
                </a:moveTo>
                <a:arcTo wR="638" hR="638" stAng="16200000" swAng="-5400000"/>
                <a:lnTo>
                  <a:pt x="0" y="21876"/>
                </a:lnTo>
                <a:arcTo wR="638" hR="638" stAng="10800000" swAng="-5400000"/>
                <a:lnTo>
                  <a:pt x="20962" y="22514"/>
                </a:lnTo>
                <a:arcTo wR="638" hR="638" stAng="5400000" swAng="-5400000"/>
                <a:lnTo>
                  <a:pt x="21600" y="638"/>
                </a:lnTo>
                <a:arcTo wR="638" hR="638" stAng="0" swAng="-5400000"/>
                <a:close/>
              </a:path>
            </a:pathLst>
          </a:custGeom>
          <a:gradFill rotWithShape="0">
            <a:gsLst>
              <a:gs pos="0">
                <a:srgbClr val="ff0517"/>
              </a:gs>
              <a:gs pos="100000">
                <a:srgbClr val="3a000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53160" y="2106720"/>
            <a:ext cx="2892240" cy="288720"/>
          </a:xfrm>
          <a:prstGeom prst="roundRect">
            <a:avLst>
              <a:gd name="adj" fmla="val 25981"/>
            </a:avLst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5734080" y="1573200"/>
            <a:ext cx="2943360" cy="434880"/>
            <a:chOff x="5734080" y="1573200"/>
            <a:chExt cx="2943360" cy="434880"/>
          </a:xfrm>
        </p:grpSpPr>
        <p:sp>
          <p:nvSpPr>
            <p:cNvPr id="380" name=""/>
            <p:cNvSpPr/>
            <p:nvPr/>
          </p:nvSpPr>
          <p:spPr>
            <a:xfrm>
              <a:off x="5734080" y="1573200"/>
              <a:ext cx="2943360" cy="43488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3a0004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62160" y="1605600"/>
              <a:ext cx="2881800" cy="1785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1116000" y="270828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1080" y="6453360"/>
            <a:ext cx="49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i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i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85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3a0004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3a0004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3a0004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dcterms:modified xsi:type="dcterms:W3CDTF">2015-01-08T13:16:26Z</dcterms:modified>
  <cp:revision>26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