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F3F-F2F0-4651-ACA2-125CE9A3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CA2-7174-40CC-8F81-07332C68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FBA-E6C6-4B70-89E7-FDE2ABEE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692-7C67-407D-BEDB-E5D01D69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E1D0-EA24-47D2-AF11-DCAF5D4A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A1AD-6599-4899-B35A-4669FC3A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532C-61D5-4AD0-A78B-75186BCB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2273-1160-4DC9-9238-E6F863C6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2E08-21C2-4819-9FC0-7C1078FE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C84F-8999-4F3E-B0E8-2DE213CC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86D6-DE95-4AF7-B6A7-572D3E50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04C-3512-492D-848F-2F9B978F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B1EF-3609-4F83-AF46-D359596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82D7-B096-40B5-9CA1-C4A559A3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FB3E-B843-4E88-8C53-DBF1728C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29E5-B62B-4C48-851F-279422C8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D186-FE2E-4792-A552-ED588112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1DF0-F504-4782-A076-54A9DA62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56E6-DE50-46EF-8FEF-E2C46984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5EEF-4493-4A95-B32D-7A0B03C3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CBB2-BCE6-4B0F-86AC-AE8BE0A1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D761-47C3-4446-890C-FC557C64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0EB-994F-4D61-85AC-06978C27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8641-151E-4267-B9BE-1251A02B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C130-755E-4EFE-BE58-CBF1864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F4C3D-03F5-479D-8853-7FA8908A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409E-0500-41A3-AB36-08776313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52CC-E231-468F-823B-983AEB27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ECDD-08DD-4C13-8837-94248235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D20C-B908-4D2F-93A6-B3241170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95A-DCDA-49EB-A193-47B532CB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77D-C3B4-4105-8E50-EDB77A5E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9C3-F9EC-4011-9AC9-52C4182C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237-449A-43BB-A3D8-B85743A8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25D-4693-4D14-9E66-26A13CE5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736-AED7-4CBC-9BFF-09AF671F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DDB1-594D-4CF7-B10A-7291E16BF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4EC0-AD32-44F6-8221-0E6F41CBE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813C-D313-490D-8459-E29FC125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喜庆婚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9800" y="62485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8T05:09:42Z</dcterms:created>
  <dc:creator/>
  <dc:description/>
  <dc:language>en-US</dc:language>
  <cp:lastModifiedBy>雨林木风</cp:lastModifiedBy>
  <dcterms:modified xsi:type="dcterms:W3CDTF">2015-01-08T07:22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