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D0D-39BA-4D96-B1C0-B7535A4C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052-0DB2-44CE-B9F4-68077026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91B-9398-4037-B6FB-806CFB60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72E-EAEB-4CBA-8925-2F767B5B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A100-D365-4B88-AFA0-B26BDDE1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7116-EA0D-4659-A8FE-DFFFFD38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981D-C6AC-4283-BC81-82653D8D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64AC-9D62-4687-AF55-831B359D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83FA-9900-474D-9CF1-6819002D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2294-649B-442E-B4D8-413F8909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B05E-2473-49FB-A226-EF7A36FE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72C-C0D4-4373-85A8-7C4C3CB0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C5BD-EE68-4E05-96E9-19E5DF38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3E58-C339-4B62-A582-0853509E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61CE-BFFD-4C7E-8BD9-7E0808C7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5A62-2A7D-43DD-B25D-D10ED347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B70A-B199-4907-A129-E2FF2159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474-2563-4E6E-9ECE-2581B6D8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273-87D1-4DE1-8A07-F931E051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2FD-B183-41FD-9915-A7A4ED23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226-0CD9-4C05-92DE-187EC90D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A90-3083-4A86-A227-64846687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4E8-4C86-42EC-9FB5-2AD63E83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13E-679F-40F7-8298-95FD8650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0471-9B57-4CB7-995F-45DC86B4E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ED75-4120-4869-8271-F1DB98DCF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54860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夕阳下骑马的人</a:t>
            </a:r>
            <a:r>
              <a:rPr b="0" lang="zh-CN" sz="3200" spc="-1" strike="noStrike">
                <a:solidFill>
                  <a:srgbClr val="dddddd"/>
                </a:solidFill>
                <a:latin typeface="Times New Roman"/>
                <a:ea typeface="宋体"/>
              </a:rPr>
              <a:t>PP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模板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6249960"/>
            <a:ext cx="723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7680" y="48769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3040" y="61722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876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8:57:52Z</dcterms:created>
  <dc:creator>eclipse</dc:creator>
  <dc:description/>
  <dc:language>en-US</dc:language>
  <cp:lastModifiedBy>eclipse</cp:lastModifiedBy>
  <dcterms:modified xsi:type="dcterms:W3CDTF">2015-01-08T12:45:06Z</dcterms:modified>
  <cp:revision>1</cp:revision>
  <dc:subject/>
  <dc:title>Western Insp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