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15183D-972C-4A89-A933-C511F02FC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06080" y="68040"/>
            <a:ext cx="831204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328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c414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3692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c414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632E40-1EDE-4214-AE82-EFBD8D044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06080" y="68040"/>
            <a:ext cx="831204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328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c414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328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c414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3692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c414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3692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c414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0A45E2-5DBD-4F96-A620-370F292A1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06080" y="68040"/>
            <a:ext cx="831204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328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c414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328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c414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328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c414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3692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c414f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3692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c414f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3692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c414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9C7742-BA84-408D-84E3-81B78A4ED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06080" y="68040"/>
            <a:ext cx="831204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328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c414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68040"/>
            <a:ext cx="831204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328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c414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06080" y="68040"/>
            <a:ext cx="831204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3287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c414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3287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c414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06080" y="68040"/>
            <a:ext cx="831204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06080" y="68040"/>
            <a:ext cx="8312040" cy="43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c414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68040"/>
            <a:ext cx="831204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28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c414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3287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c414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92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c414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06080" y="68040"/>
            <a:ext cx="831204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328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c414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88D730-64A5-4A44-99E6-D7F0EFFE6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06080" y="68040"/>
            <a:ext cx="831204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3287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c414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328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c414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692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c414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06080" y="68040"/>
            <a:ext cx="831204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28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c414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28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c414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692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c414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06080" y="68040"/>
            <a:ext cx="831204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28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c414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692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c414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06080" y="68040"/>
            <a:ext cx="831204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328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c414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328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c414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692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c414f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692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c414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68040"/>
            <a:ext cx="831204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28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c414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328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c414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328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c414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692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c414f"/>
              </a:solidFill>
              <a:latin typeface="Aria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692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c414f"/>
              </a:solidFill>
              <a:latin typeface="Arial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692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c414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06080" y="68040"/>
            <a:ext cx="831204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28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c414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62BED7-6C49-411F-BFE9-B9A00D5A5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06080" y="68040"/>
            <a:ext cx="831204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3287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c414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3287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c414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AC7259-83F6-4F1B-B8A4-2DA719114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68040"/>
            <a:ext cx="831204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4686DF-FA95-4360-87C5-4AE78AFDC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06080" y="68040"/>
            <a:ext cx="8312040" cy="43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c414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1EC2FB-0B2E-43C1-B8B0-3AB2BB4EA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06080" y="68040"/>
            <a:ext cx="831204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28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c414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287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c414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92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c414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FD9FB9-6AB1-4769-A47C-6895F4743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06080" y="68040"/>
            <a:ext cx="831204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287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c414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28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c414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3692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c414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68F5B0-B129-4E95-92BD-D9799E69B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06080" y="68040"/>
            <a:ext cx="831204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28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c414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328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c414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92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c414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76435E-31ED-4B26-94DF-2E7AF1B44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1679400"/>
          </a:xfrm>
          <a:prstGeom prst="rect">
            <a:avLst/>
          </a:prstGeom>
          <a:gradFill rotWithShape="0">
            <a:gsLst>
              <a:gs pos="0">
                <a:srgbClr val="d7d7d7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 flipV="1">
            <a:off x="468360" y="952200"/>
            <a:ext cx="8229600" cy="20520"/>
          </a:xfrm>
          <a:prstGeom prst="line">
            <a:avLst/>
          </a:prstGeom>
          <a:ln cap="rnd" w="34920">
            <a:solidFill>
              <a:srgbClr val="08080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802640" y="6443640"/>
            <a:ext cx="152280" cy="152280"/>
          </a:xfrm>
          <a:prstGeom prst="ellipse">
            <a:avLst/>
          </a:prstGeom>
          <a:solidFill>
            <a:srgbClr val="9399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8023320" y="6443640"/>
            <a:ext cx="152280" cy="152280"/>
          </a:xfrm>
          <a:prstGeom prst="ellipse">
            <a:avLst/>
          </a:prstGeom>
          <a:solidFill>
            <a:srgbClr val="b244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8251920" y="6443640"/>
            <a:ext cx="152280" cy="152280"/>
          </a:xfrm>
          <a:prstGeom prst="ellipse">
            <a:avLst/>
          </a:prstGeom>
          <a:solidFill>
            <a:srgbClr val="ec9f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8480520" y="6443640"/>
            <a:ext cx="152280" cy="152280"/>
          </a:xfrm>
          <a:prstGeom prst="ellipse">
            <a:avLst/>
          </a:prstGeom>
          <a:solidFill>
            <a:srgbClr val="5c41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328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c41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c414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5c414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c414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5c414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c414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5c414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c414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5c414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c414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5c414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c414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5c414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c414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5c414f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Arial"/>
                <a:ea typeface="宋体"/>
              </a:rPr>
              <a:t>&lt;footer&gt;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imes New Roman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AAC43-632F-47B7-A504-F280FC45B56C}" type="slidenum">
              <a:rPr b="0" lang="zh-CN" sz="1400" spc="-1" strike="noStrike">
                <a:solidFill>
                  <a:srgbClr val="1c1c1c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Arial"/>
                <a:ea typeface="宋体"/>
              </a:rPr>
              <a:t>&lt;date/time&gt;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imes New Roman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title"/>
          </p:nvPr>
        </p:nvSpPr>
        <p:spPr>
          <a:xfrm>
            <a:off x="406080" y="68040"/>
            <a:ext cx="8312040" cy="94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80808"/>
                </a:solidFill>
                <a:latin typeface="Arial"/>
              </a:rPr>
              <a:t>Click to edit the title text format</a:t>
            </a:r>
            <a:endParaRPr b="1" lang="en-US" sz="4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7050240" y="700200"/>
            <a:ext cx="1771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c1c1c"/>
                </a:solidFill>
                <a:latin typeface="Arial"/>
                <a:ea typeface="宋体"/>
              </a:rPr>
              <a:t>www.themegallery.com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</p:txBody>
      </p:sp>
      <p:pic>
        <p:nvPicPr>
          <p:cNvPr id="15" name="" descr=""/>
          <p:cNvPicPr/>
          <p:nvPr/>
        </p:nvPicPr>
        <p:blipFill>
          <a:blip r:embed="rId2"/>
          <a:srcRect l="18017" t="0" r="0" b="12679"/>
          <a:stretch/>
        </p:blipFill>
        <p:spPr>
          <a:xfrm>
            <a:off x="709560" y="741240"/>
            <a:ext cx="7809120" cy="5389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afafa"/>
            </a:gs>
            <a:gs pos="100000">
              <a:srgbClr val="ddddd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685800" y="1098720"/>
            <a:ext cx="8458200" cy="954000"/>
          </a:xfrm>
          <a:prstGeom prst="rect">
            <a:avLst/>
          </a:prstGeom>
          <a:gradFill rotWithShape="0">
            <a:gsLst>
              <a:gs pos="0">
                <a:srgbClr val="5c414f"/>
              </a:gs>
              <a:gs pos="100000">
                <a:srgbClr val="86727c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802640" y="6443640"/>
            <a:ext cx="152280" cy="152280"/>
          </a:xfrm>
          <a:prstGeom prst="ellipse">
            <a:avLst/>
          </a:prstGeom>
          <a:solidFill>
            <a:srgbClr val="9399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8023320" y="6443640"/>
            <a:ext cx="152280" cy="152280"/>
          </a:xfrm>
          <a:prstGeom prst="ellipse">
            <a:avLst/>
          </a:prstGeom>
          <a:solidFill>
            <a:srgbClr val="b244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251920" y="6443640"/>
            <a:ext cx="152280" cy="152280"/>
          </a:xfrm>
          <a:prstGeom prst="ellipse">
            <a:avLst/>
          </a:prstGeom>
          <a:solidFill>
            <a:srgbClr val="ec9f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8480520" y="6443640"/>
            <a:ext cx="152280" cy="152280"/>
          </a:xfrm>
          <a:prstGeom prst="ellipse">
            <a:avLst/>
          </a:prstGeom>
          <a:solidFill>
            <a:srgbClr val="5c41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5504040" y="5227560"/>
            <a:ext cx="917280" cy="9810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6253200" y="5305320"/>
            <a:ext cx="1431720" cy="9493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7499520" y="5253120"/>
            <a:ext cx="1190520" cy="9745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5"/>
          <a:stretch/>
        </p:blipFill>
        <p:spPr>
          <a:xfrm>
            <a:off x="466560" y="1838160"/>
            <a:ext cx="3670560" cy="501984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80808"/>
                </a:solidFill>
                <a:latin typeface="Arial"/>
              </a:rPr>
              <a:t>Click to edit the title text format</a:t>
            </a:r>
            <a:endParaRPr b="1" lang="en-US" sz="4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c414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5c414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80808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80808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80808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8080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80808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80808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80808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80808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6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afafa"/>
            </a:gs>
            <a:gs pos="100000">
              <a:srgbClr val="ddddd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813120" y="2799360"/>
            <a:ext cx="5014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c1c1c"/>
                </a:solidFill>
                <a:latin typeface="Arial"/>
                <a:ea typeface="微软雅黑"/>
              </a:rPr>
              <a:t>金融</a:t>
            </a:r>
            <a:r>
              <a:rPr b="1" lang="zh-CN" sz="4400" spc="-1" strike="noStrike">
                <a:solidFill>
                  <a:srgbClr val="1c1c1c"/>
                </a:solidFill>
                <a:latin typeface="Arial"/>
                <a:ea typeface="微软雅黑"/>
              </a:rPr>
              <a:t>PPT</a:t>
            </a:r>
            <a:r>
              <a:rPr b="1" lang="zh-CN" sz="4400" spc="-1" strike="noStrike">
                <a:solidFill>
                  <a:srgbClr val="1c1c1c"/>
                </a:solidFill>
                <a:latin typeface="Arial"/>
                <a:ea typeface="微软雅黑"/>
              </a:rPr>
              <a:t>模板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5360" y="6135840"/>
            <a:ext cx="23252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Arial"/>
                <a:ea typeface="黑体"/>
              </a:rPr>
              <a:t> </a:t>
            </a: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黑体"/>
              </a:rPr>
              <a:t>免费</a:t>
            </a: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黑体"/>
              </a:rPr>
              <a:t>PPT</a:t>
            </a: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黑体"/>
              </a:rPr>
              <a:t>模板下载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1c1c1c"/>
                </a:solidFill>
                <a:latin typeface="Arial"/>
              </a:rPr>
              <a:t>    </a:t>
            </a:r>
            <a:r>
              <a:rPr b="1" i="1" lang="zh-CN" sz="1400" spc="-1" strike="noStrike">
                <a:solidFill>
                  <a:srgbClr val="1c1c1c"/>
                </a:solidFill>
                <a:latin typeface="Arial"/>
              </a:rPr>
              <a:t>http://</a:t>
            </a:r>
            <a:r>
              <a:rPr b="1" lang="zh-CN" sz="1400" spc="-1" strike="noStrike">
                <a:solidFill>
                  <a:srgbClr val="1c1c1c"/>
                </a:solidFill>
                <a:latin typeface="华文中宋"/>
                <a:ea typeface="华文中宋"/>
              </a:rPr>
              <a:t>www.eeppt.com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60360" y="1820880"/>
            <a:ext cx="82296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87720" indent="-387720">
              <a:spcBef>
                <a:spcPts val="799"/>
              </a:spcBef>
              <a:buClr>
                <a:srgbClr val="1c1c1c"/>
              </a:buClr>
              <a:buFont typeface="Wingdings" charset="2"/>
              <a:buChar char=""/>
              <a:tabLst>
                <a:tab algn="l" pos="685800"/>
                <a:tab algn="l" pos="4343400"/>
                <a:tab algn="l" pos="8686800"/>
              </a:tabLst>
            </a:pPr>
            <a:r>
              <a:rPr b="1" lang="en-US" sz="3200" spc="-1" strike="noStrike">
                <a:solidFill>
                  <a:srgbClr val="1c1c1c"/>
                </a:solidFill>
                <a:latin typeface="Arial"/>
                <a:ea typeface="宋体"/>
              </a:rPr>
              <a:t>How do I incorporate my logo to a slide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marL="387720" indent="-387720">
              <a:spcBef>
                <a:spcPts val="799"/>
              </a:spcBef>
              <a:tabLst>
                <a:tab algn="l" pos="0"/>
                <a:tab algn="l" pos="685800"/>
                <a:tab algn="l" pos="4343400"/>
                <a:tab algn="l" pos="8686800"/>
              </a:tabLst>
            </a:pPr>
            <a:r>
              <a:rPr b="1" lang="en-US" sz="3200" spc="-1" strike="noStrike">
                <a:solidFill>
                  <a:srgbClr val="1c1c1c"/>
                </a:solidFill>
                <a:latin typeface="Arial"/>
                <a:ea typeface="宋体"/>
              </a:rPr>
              <a:t>   </a:t>
            </a:r>
            <a:r>
              <a:rPr b="1" lang="en-US" sz="3200" spc="-1" strike="noStrike">
                <a:solidFill>
                  <a:srgbClr val="1c1c1c"/>
                </a:solidFill>
                <a:latin typeface="Arial"/>
                <a:ea typeface="宋体"/>
              </a:rPr>
              <a:t>that will apply to all the other slides?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marL="387720" indent="-387720">
              <a:spcBef>
                <a:spcPts val="601"/>
              </a:spcBef>
              <a:tabLst>
                <a:tab algn="l" pos="0"/>
                <a:tab algn="l" pos="685800"/>
                <a:tab algn="l" pos="4343400"/>
                <a:tab algn="l" pos="8686800"/>
              </a:tabLst>
            </a:pPr>
            <a:r>
              <a:rPr b="1" lang="en-US" sz="3200" spc="-1" strike="noStrike">
                <a:solidFill>
                  <a:srgbClr val="1c1c1c"/>
                </a:solidFill>
                <a:latin typeface="Arial"/>
                <a:ea typeface="宋体"/>
              </a:rPr>
              <a:t>    </a:t>
            </a:r>
            <a:r>
              <a:rPr b="1" lang="en-US" sz="3200" spc="-1" strike="noStrike">
                <a:solidFill>
                  <a:srgbClr val="1c1c1c"/>
                </a:solidFill>
                <a:latin typeface="Arial"/>
                <a:ea typeface="宋体"/>
              </a:rPr>
              <a:t>- </a:t>
            </a:r>
            <a:r>
              <a:rPr b="1" lang="en-US" sz="2400" spc="-1" strike="noStrike">
                <a:solidFill>
                  <a:srgbClr val="1c1c1c"/>
                </a:solidFill>
                <a:latin typeface="Arial"/>
                <a:ea typeface="宋体"/>
              </a:rPr>
              <a:t>On the [View] menu, point to [Master], and then click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387720" indent="-387720">
              <a:spcBef>
                <a:spcPts val="601"/>
              </a:spcBef>
              <a:tabLst>
                <a:tab algn="l" pos="0"/>
                <a:tab algn="l" pos="685800"/>
                <a:tab algn="l" pos="4343400"/>
                <a:tab algn="l" pos="868680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  <a:ea typeface="宋体"/>
              </a:rPr>
              <a:t>        </a:t>
            </a:r>
            <a:r>
              <a:rPr b="1" lang="en-US" sz="2400" spc="-1" strike="noStrike">
                <a:solidFill>
                  <a:srgbClr val="1c1c1c"/>
                </a:solidFill>
                <a:latin typeface="Arial"/>
                <a:ea typeface="宋体"/>
              </a:rPr>
              <a:t>[Slide Master] or Notes Master.  Change images to the 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387720" indent="-387720">
              <a:spcBef>
                <a:spcPts val="601"/>
              </a:spcBef>
              <a:tabLst>
                <a:tab algn="l" pos="0"/>
                <a:tab algn="l" pos="685800"/>
                <a:tab algn="l" pos="4343400"/>
                <a:tab algn="l" pos="868680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  <a:ea typeface="宋体"/>
              </a:rPr>
              <a:t>        </a:t>
            </a:r>
            <a:r>
              <a:rPr b="1" lang="en-US" sz="2400" spc="-1" strike="noStrike">
                <a:solidFill>
                  <a:srgbClr val="1c1c1c"/>
                </a:solidFill>
                <a:latin typeface="Arial"/>
                <a:ea typeface="宋体"/>
              </a:rPr>
              <a:t>one you like, then it will apply to all the other slides.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387720" indent="-387720">
              <a:spcBef>
                <a:spcPts val="601"/>
              </a:spcBef>
              <a:tabLst>
                <a:tab algn="l" pos="0"/>
                <a:tab algn="l" pos="685800"/>
                <a:tab algn="l" pos="4343400"/>
                <a:tab algn="l" pos="8686800"/>
              </a:tabLst>
            </a:pP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93880" y="4707000"/>
            <a:ext cx="7315200" cy="1218960"/>
          </a:xfrm>
          <a:prstGeom prst="rect">
            <a:avLst/>
          </a:prstGeom>
          <a:solidFill>
            <a:srgbClr val="939932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046160" y="4881600"/>
            <a:ext cx="579132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11111"/>
                </a:solidFill>
                <a:latin typeface="Arial"/>
                <a:ea typeface="宋体"/>
              </a:rPr>
              <a:t>[ Image information in product ]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spcBef>
                <a:spcPts val="624"/>
              </a:spcBef>
              <a:buClr>
                <a:srgbClr val="111111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11111"/>
                </a:solidFill>
                <a:latin typeface="Arial"/>
                <a:ea typeface="宋体"/>
              </a:rPr>
              <a:t> </a:t>
            </a:r>
            <a:r>
              <a:rPr b="0" lang="en-US" sz="1000" spc="-1" strike="noStrike">
                <a:solidFill>
                  <a:srgbClr val="111111"/>
                </a:solidFill>
                <a:latin typeface="Arial"/>
                <a:ea typeface="宋体"/>
              </a:rPr>
              <a:t>Image : </a:t>
            </a:r>
            <a:r>
              <a:rPr b="1" lang="en-US" sz="1000" spc="-1" strike="noStrike">
                <a:solidFill>
                  <a:srgbClr val="1c1c1c"/>
                </a:solidFill>
                <a:latin typeface="Arial"/>
                <a:ea typeface="宋体"/>
              </a:rPr>
              <a:t>Banking and Finance_PHOTODISC(MULTIBITS)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spcBef>
                <a:spcPts val="624"/>
              </a:spcBef>
              <a:buClr>
                <a:srgbClr val="111111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11111"/>
                </a:solidFill>
                <a:latin typeface="Arial"/>
                <a:ea typeface="宋体"/>
              </a:rPr>
              <a:t> </a:t>
            </a:r>
            <a:r>
              <a:rPr b="0" lang="en-US" sz="1000" spc="-1" strike="noStrike">
                <a:solidFill>
                  <a:srgbClr val="111111"/>
                </a:solidFill>
                <a:latin typeface="Arial"/>
                <a:ea typeface="宋体"/>
              </a:rPr>
              <a:t>Note to customers : This image has been licensed to be used within </a:t>
            </a:r>
            <a:r>
              <a:rPr b="1" lang="en-US" sz="1000" spc="-1" strike="noStrike">
                <a:solidFill>
                  <a:srgbClr val="111111"/>
                </a:solidFill>
                <a:latin typeface="Arial"/>
                <a:ea typeface="宋体"/>
              </a:rPr>
              <a:t>PowerPoint template only.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11111"/>
                </a:solidFill>
                <a:latin typeface="Arial"/>
                <a:ea typeface="宋体"/>
              </a:rPr>
              <a:t>- You may not extract the image for any other use.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85280" y="82080"/>
            <a:ext cx="7890120" cy="862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80808"/>
                </a:solidFill>
                <a:latin typeface="Arial"/>
                <a:ea typeface="宋体"/>
              </a:rPr>
              <a:t>Introduction</a:t>
            </a:r>
            <a:endParaRPr b="1" lang="en-US" sz="46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afafa"/>
            </a:gs>
            <a:gs pos="100000">
              <a:srgbClr val="ddddd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5181480" y="2070000"/>
            <a:ext cx="3006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07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1c1c1c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1c1c1c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1c1c1c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1c1c1c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1c1c1c"/>
                </a:solidFill>
                <a:latin typeface="Arial"/>
              </a:endParaRPr>
            </a:p>
          </p:txBody>
        </p:sp>
        <p:pic>
          <p:nvPicPr>
            <p:cNvPr id="108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b24476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b24476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b24476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1c1c1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6T06:58:57Z</dcterms:created>
  <dc:creator>微软用户</dc:creator>
  <dc:description/>
  <dc:language>en-US</dc:language>
  <cp:lastModifiedBy>微软用户</cp:lastModifiedBy>
  <dcterms:modified xsi:type="dcterms:W3CDTF">2015-01-07T14:16:44Z</dcterms:modified>
  <cp:revision>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